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0B5EA-B0C2-46CA-A923-B16EE5A3626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14172-E6A1-4CC2-B9A5-B31BC52838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4" name="PlaceHolder 1"/>
          <p:cNvSpPr>
            <a:spLocks noGrp="1"/>
          </p:cNvSpPr>
          <p:nvPr>
            <p:ph type="sldImg"/>
          </p:nvPr>
        </p:nvSpPr>
        <p:spPr>
          <a:xfrm>
            <a:off x="985680" y="733320"/>
            <a:ext cx="4886640" cy="3665520"/>
          </a:xfrm>
          <a:prstGeom prst="rect">
            <a:avLst/>
          </a:prstGeom>
          <a:ln w="0">
            <a:noFill/>
          </a:ln>
        </p:spPr>
      </p:sp>
      <p:sp>
        <p:nvSpPr>
          <p:cNvPr id="662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7396D-E139-4D59-806E-F626A12218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D0259-45F0-4C9C-88AA-A0DDE3B3D7C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0" name="PlaceHolder 1"/>
          <p:cNvSpPr>
            <a:spLocks noGrp="1"/>
          </p:cNvSpPr>
          <p:nvPr>
            <p:ph type="sldImg"/>
          </p:nvPr>
        </p:nvSpPr>
        <p:spPr>
          <a:xfrm>
            <a:off x="985680" y="741240"/>
            <a:ext cx="4886640" cy="3665520"/>
          </a:xfrm>
          <a:prstGeom prst="rect">
            <a:avLst/>
          </a:prstGeom>
          <a:ln w="0">
            <a:noFill/>
          </a:ln>
        </p:spPr>
      </p:sp>
      <p:sp>
        <p:nvSpPr>
          <p:cNvPr id="6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3B5C7-230E-4A44-B42D-DCF1D52D51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81D3E-4E34-4C6E-B073-97640F3829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4" name="PlaceHolder 1"/>
          <p:cNvSpPr>
            <a:spLocks noGrp="1"/>
          </p:cNvSpPr>
          <p:nvPr>
            <p:ph type="sldImg"/>
          </p:nvPr>
        </p:nvSpPr>
        <p:spPr>
          <a:xfrm>
            <a:off x="985680" y="741240"/>
            <a:ext cx="4886640" cy="3665520"/>
          </a:xfrm>
          <a:prstGeom prst="rect">
            <a:avLst/>
          </a:prstGeom>
          <a:ln w="0">
            <a:noFill/>
          </a:ln>
        </p:spPr>
      </p:sp>
      <p:sp>
        <p:nvSpPr>
          <p:cNvPr id="6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1F69E-5950-4D81-A171-415A68255F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AC445-418A-4270-A51C-F8E6ADE229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8" name="PlaceHolder 1"/>
          <p:cNvSpPr>
            <a:spLocks noGrp="1"/>
          </p:cNvSpPr>
          <p:nvPr>
            <p:ph type="sldImg"/>
          </p:nvPr>
        </p:nvSpPr>
        <p:spPr>
          <a:xfrm>
            <a:off x="985680" y="741240"/>
            <a:ext cx="4886640" cy="3665520"/>
          </a:xfrm>
          <a:prstGeom prst="rect">
            <a:avLst/>
          </a:prstGeom>
          <a:ln w="0">
            <a:noFill/>
          </a:ln>
        </p:spPr>
      </p:sp>
      <p:sp>
        <p:nvSpPr>
          <p:cNvPr id="6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0DC49-B7A6-4949-B6BB-4D1AC1C047A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5BADF-DAB6-4127-ABF1-C5C7C69F52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2" name="PlaceHolder 1"/>
          <p:cNvSpPr>
            <a:spLocks noGrp="1"/>
          </p:cNvSpPr>
          <p:nvPr>
            <p:ph type="sldImg"/>
          </p:nvPr>
        </p:nvSpPr>
        <p:spPr>
          <a:xfrm>
            <a:off x="985680" y="741240"/>
            <a:ext cx="4886640" cy="3665520"/>
          </a:xfrm>
          <a:prstGeom prst="rect">
            <a:avLst/>
          </a:prstGeom>
          <a:ln w="0">
            <a:noFill/>
          </a:ln>
        </p:spPr>
      </p:sp>
      <p:sp>
        <p:nvSpPr>
          <p:cNvPr id="6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CAA63-2161-4ADA-B6E1-E9B646E7CB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E7B75-2D29-424D-BDCD-00F92A26D7E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6" name="PlaceHolder 1"/>
          <p:cNvSpPr>
            <a:spLocks noGrp="1"/>
          </p:cNvSpPr>
          <p:nvPr>
            <p:ph type="sldImg"/>
          </p:nvPr>
        </p:nvSpPr>
        <p:spPr>
          <a:xfrm>
            <a:off x="985680" y="741240"/>
            <a:ext cx="4886640" cy="3665520"/>
          </a:xfrm>
          <a:prstGeom prst="rect">
            <a:avLst/>
          </a:prstGeom>
          <a:ln w="0">
            <a:noFill/>
          </a:ln>
        </p:spPr>
      </p:sp>
      <p:sp>
        <p:nvSpPr>
          <p:cNvPr id="6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161BC-4DE1-4306-BD6F-5012AABA9F7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40DE3-64AC-40EB-8BF9-A196BF0861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0" name="PlaceHolder 1"/>
          <p:cNvSpPr>
            <a:spLocks noGrp="1"/>
          </p:cNvSpPr>
          <p:nvPr>
            <p:ph type="sldImg"/>
          </p:nvPr>
        </p:nvSpPr>
        <p:spPr>
          <a:xfrm>
            <a:off x="985680" y="741240"/>
            <a:ext cx="4886640" cy="3665520"/>
          </a:xfrm>
          <a:prstGeom prst="rect">
            <a:avLst/>
          </a:prstGeom>
          <a:ln w="0">
            <a:noFill/>
          </a:ln>
        </p:spPr>
      </p:sp>
      <p:sp>
        <p:nvSpPr>
          <p:cNvPr id="6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57F19-7081-4837-B9D8-4B6E2479D7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FB2DB-9214-45DF-84F4-8161EE822E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41240"/>
            <a:ext cx="4886640" cy="3665520"/>
          </a:xfrm>
          <a:prstGeom prst="rect">
            <a:avLst/>
          </a:prstGeom>
          <a:ln w="0">
            <a:noFill/>
          </a:ln>
        </p:spPr>
      </p:sp>
      <p:sp>
        <p:nvSpPr>
          <p:cNvPr id="6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17E08-40D2-4BDA-9D7D-046BA62EA99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9C082-AF24-4AA5-AF4C-9135150FE8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8" name="PlaceHolder 1"/>
          <p:cNvSpPr>
            <a:spLocks noGrp="1"/>
          </p:cNvSpPr>
          <p:nvPr>
            <p:ph type="sldImg"/>
          </p:nvPr>
        </p:nvSpPr>
        <p:spPr>
          <a:xfrm>
            <a:off x="985680" y="741240"/>
            <a:ext cx="4886640" cy="3665520"/>
          </a:xfrm>
          <a:prstGeom prst="rect">
            <a:avLst/>
          </a:prstGeom>
          <a:ln w="0">
            <a:noFill/>
          </a:ln>
        </p:spPr>
      </p:sp>
      <p:sp>
        <p:nvSpPr>
          <p:cNvPr id="6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CA3EE-8C94-4C37-B108-D9A64C99DA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86FE0-1682-47A5-9EB8-58A3D28E34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2" name="PlaceHolder 1"/>
          <p:cNvSpPr>
            <a:spLocks noGrp="1"/>
          </p:cNvSpPr>
          <p:nvPr>
            <p:ph type="sldImg"/>
          </p:nvPr>
        </p:nvSpPr>
        <p:spPr>
          <a:xfrm>
            <a:off x="985680" y="741240"/>
            <a:ext cx="4886640" cy="3665520"/>
          </a:xfrm>
          <a:prstGeom prst="rect">
            <a:avLst/>
          </a:prstGeom>
          <a:ln w="0">
            <a:noFill/>
          </a:ln>
        </p:spPr>
      </p:sp>
      <p:sp>
        <p:nvSpPr>
          <p:cNvPr id="6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F88F3-2C91-41DB-8CD2-3F2E1404C3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88265-4280-454B-92EE-30AC1893B6D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6" name="PlaceHolder 1"/>
          <p:cNvSpPr>
            <a:spLocks noGrp="1"/>
          </p:cNvSpPr>
          <p:nvPr>
            <p:ph type="sldImg"/>
          </p:nvPr>
        </p:nvSpPr>
        <p:spPr>
          <a:xfrm>
            <a:off x="985680" y="741240"/>
            <a:ext cx="4886640" cy="3665520"/>
          </a:xfrm>
          <a:prstGeom prst="rect">
            <a:avLst/>
          </a:prstGeom>
          <a:ln w="0">
            <a:noFill/>
          </a:ln>
        </p:spPr>
      </p:sp>
      <p:sp>
        <p:nvSpPr>
          <p:cNvPr id="6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59AC5-EFF7-4105-B590-DFB94A3A9B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0B11E-9C82-4347-8AA9-B0610CC1A7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8" name="PlaceHolder 1"/>
          <p:cNvSpPr>
            <a:spLocks noGrp="1"/>
          </p:cNvSpPr>
          <p:nvPr>
            <p:ph type="sldImg"/>
          </p:nvPr>
        </p:nvSpPr>
        <p:spPr>
          <a:xfrm>
            <a:off x="985680" y="741240"/>
            <a:ext cx="4886640" cy="3665520"/>
          </a:xfrm>
          <a:prstGeom prst="rect">
            <a:avLst/>
          </a:prstGeom>
          <a:ln w="0">
            <a:noFill/>
          </a:ln>
        </p:spPr>
      </p:sp>
      <p:sp>
        <p:nvSpPr>
          <p:cNvPr id="6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ED02D-E429-49BB-B827-2CA1F66718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7A838-E420-451F-A27C-CE8FF477B9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0" name="PlaceHolder 1"/>
          <p:cNvSpPr>
            <a:spLocks noGrp="1"/>
          </p:cNvSpPr>
          <p:nvPr>
            <p:ph type="sldImg"/>
          </p:nvPr>
        </p:nvSpPr>
        <p:spPr>
          <a:xfrm>
            <a:off x="985680" y="741240"/>
            <a:ext cx="4886640" cy="3665520"/>
          </a:xfrm>
          <a:prstGeom prst="rect">
            <a:avLst/>
          </a:prstGeom>
          <a:ln w="0">
            <a:noFill/>
          </a:ln>
        </p:spPr>
      </p:sp>
      <p:sp>
        <p:nvSpPr>
          <p:cNvPr id="6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E35AC-6C95-4E98-B5F6-6D12079399D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3CD7B-00B4-4EF2-9A58-17C0B4FE9B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4" name="PlaceHolder 1"/>
          <p:cNvSpPr>
            <a:spLocks noGrp="1"/>
          </p:cNvSpPr>
          <p:nvPr>
            <p:ph type="sldImg"/>
          </p:nvPr>
        </p:nvSpPr>
        <p:spPr>
          <a:xfrm>
            <a:off x="985680" y="741240"/>
            <a:ext cx="4886640" cy="3665520"/>
          </a:xfrm>
          <a:prstGeom prst="rect">
            <a:avLst/>
          </a:prstGeom>
          <a:ln w="0">
            <a:noFill/>
          </a:ln>
        </p:spPr>
      </p:sp>
      <p:sp>
        <p:nvSpPr>
          <p:cNvPr id="6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74892-C9BD-4444-BD1A-587DF7460F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82C43-4AE8-4C89-AF84-66458581BB5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8" name="PlaceHolder 1"/>
          <p:cNvSpPr>
            <a:spLocks noGrp="1"/>
          </p:cNvSpPr>
          <p:nvPr>
            <p:ph type="sldImg"/>
          </p:nvPr>
        </p:nvSpPr>
        <p:spPr>
          <a:xfrm>
            <a:off x="985680" y="741240"/>
            <a:ext cx="4886640" cy="3665520"/>
          </a:xfrm>
          <a:prstGeom prst="rect">
            <a:avLst/>
          </a:prstGeom>
          <a:ln w="0">
            <a:noFill/>
          </a:ln>
        </p:spPr>
      </p:sp>
      <p:sp>
        <p:nvSpPr>
          <p:cNvPr id="6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CAC35-B959-4C70-90E6-C1AEB855AD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CF96F-0586-475B-AEE4-7826614AB1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2" name="PlaceHolder 1"/>
          <p:cNvSpPr>
            <a:spLocks noGrp="1"/>
          </p:cNvSpPr>
          <p:nvPr>
            <p:ph type="sldImg"/>
          </p:nvPr>
        </p:nvSpPr>
        <p:spPr>
          <a:xfrm>
            <a:off x="985680" y="741240"/>
            <a:ext cx="4886640" cy="3665520"/>
          </a:xfrm>
          <a:prstGeom prst="rect">
            <a:avLst/>
          </a:prstGeom>
          <a:ln w="0">
            <a:noFill/>
          </a:ln>
        </p:spPr>
      </p:sp>
      <p:sp>
        <p:nvSpPr>
          <p:cNvPr id="6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230E9B-9CB3-4124-AD31-92F6BF383C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38919-6D46-45C3-ADBB-10274E6B30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6" name="PlaceHolder 1"/>
          <p:cNvSpPr>
            <a:spLocks noGrp="1"/>
          </p:cNvSpPr>
          <p:nvPr>
            <p:ph type="sldImg"/>
          </p:nvPr>
        </p:nvSpPr>
        <p:spPr>
          <a:xfrm>
            <a:off x="985680" y="741240"/>
            <a:ext cx="4886640" cy="3665520"/>
          </a:xfrm>
          <a:prstGeom prst="rect">
            <a:avLst/>
          </a:prstGeom>
          <a:ln w="0">
            <a:noFill/>
          </a:ln>
        </p:spPr>
      </p:sp>
      <p:sp>
        <p:nvSpPr>
          <p:cNvPr id="6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F1BF8-05BB-4BD2-9C60-751B3E67D9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723A7-2F4F-4DD4-A889-C51D2DBBB75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0" name="PlaceHolder 1"/>
          <p:cNvSpPr>
            <a:spLocks noGrp="1"/>
          </p:cNvSpPr>
          <p:nvPr>
            <p:ph type="sldImg"/>
          </p:nvPr>
        </p:nvSpPr>
        <p:spPr>
          <a:xfrm>
            <a:off x="985680" y="741240"/>
            <a:ext cx="4886640" cy="3665520"/>
          </a:xfrm>
          <a:prstGeom prst="rect">
            <a:avLst/>
          </a:prstGeom>
          <a:ln w="0">
            <a:noFill/>
          </a:ln>
        </p:spPr>
      </p:sp>
      <p:sp>
        <p:nvSpPr>
          <p:cNvPr id="6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CF07A-7C63-4703-AB55-0C742E1A30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3" name="PlaceHolder 1"/>
          <p:cNvSpPr>
            <a:spLocks noGrp="1"/>
          </p:cNvSpPr>
          <p:nvPr>
            <p:ph type="sldImg"/>
          </p:nvPr>
        </p:nvSpPr>
        <p:spPr>
          <a:xfrm>
            <a:off x="985680" y="733320"/>
            <a:ext cx="4886640" cy="3665520"/>
          </a:xfrm>
          <a:prstGeom prst="rect">
            <a:avLst/>
          </a:prstGeom>
          <a:ln w="0">
            <a:noFill/>
          </a:ln>
        </p:spPr>
      </p:sp>
      <p:sp>
        <p:nvSpPr>
          <p:cNvPr id="6724"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F33F1-0633-41AF-9EDD-92936D985D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6FFD4-FE1A-40BA-9822-311D2A0990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2" name="PlaceHolder 1"/>
          <p:cNvSpPr>
            <a:spLocks noGrp="1"/>
          </p:cNvSpPr>
          <p:nvPr>
            <p:ph type="sldImg"/>
          </p:nvPr>
        </p:nvSpPr>
        <p:spPr>
          <a:xfrm>
            <a:off x="985680" y="741240"/>
            <a:ext cx="4886640" cy="3665520"/>
          </a:xfrm>
          <a:prstGeom prst="rect">
            <a:avLst/>
          </a:prstGeom>
          <a:ln w="0">
            <a:noFill/>
          </a:ln>
        </p:spPr>
      </p:sp>
      <p:sp>
        <p:nvSpPr>
          <p:cNvPr id="6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C1948-4F35-43CF-BD74-337FB6F3B7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CA791-B5D1-4E12-B397-3C2C0E6879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6" name="PlaceHolder 1"/>
          <p:cNvSpPr>
            <a:spLocks noGrp="1"/>
          </p:cNvSpPr>
          <p:nvPr>
            <p:ph type="sldImg"/>
          </p:nvPr>
        </p:nvSpPr>
        <p:spPr>
          <a:xfrm>
            <a:off x="985680" y="741240"/>
            <a:ext cx="4886640" cy="3665520"/>
          </a:xfrm>
          <a:prstGeom prst="rect">
            <a:avLst/>
          </a:prstGeom>
          <a:ln w="0">
            <a:noFill/>
          </a:ln>
        </p:spPr>
      </p:sp>
      <p:sp>
        <p:nvSpPr>
          <p:cNvPr id="6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5E5EB-D4D4-48A8-BBC3-0FD757DC06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E98E0-5EB9-459D-9AB1-A8DFA7CA0B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0" name="PlaceHolder 1"/>
          <p:cNvSpPr>
            <a:spLocks noGrp="1"/>
          </p:cNvSpPr>
          <p:nvPr>
            <p:ph type="sldImg"/>
          </p:nvPr>
        </p:nvSpPr>
        <p:spPr>
          <a:xfrm>
            <a:off x="985680" y="741240"/>
            <a:ext cx="4886640" cy="3665520"/>
          </a:xfrm>
          <a:prstGeom prst="rect">
            <a:avLst/>
          </a:prstGeom>
          <a:ln w="0">
            <a:noFill/>
          </a:ln>
        </p:spPr>
      </p:sp>
      <p:sp>
        <p:nvSpPr>
          <p:cNvPr id="6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5EBBE-7710-4D6B-A236-F4F9C3DE69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5834C-DB67-4058-A771-5A3F9F541E3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4" name="PlaceHolder 1"/>
          <p:cNvSpPr>
            <a:spLocks noGrp="1"/>
          </p:cNvSpPr>
          <p:nvPr>
            <p:ph type="sldImg"/>
          </p:nvPr>
        </p:nvSpPr>
        <p:spPr>
          <a:xfrm>
            <a:off x="985680" y="741240"/>
            <a:ext cx="4886640" cy="3665520"/>
          </a:xfrm>
          <a:prstGeom prst="rect">
            <a:avLst/>
          </a:prstGeom>
          <a:ln w="0">
            <a:noFill/>
          </a:ln>
        </p:spPr>
      </p:sp>
      <p:sp>
        <p:nvSpPr>
          <p:cNvPr id="6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218DA-B784-4093-9CFB-A831F44B27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F4355-1EFB-46F0-B95E-9B7B2B1832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8" name="PlaceHolder 1"/>
          <p:cNvSpPr>
            <a:spLocks noGrp="1"/>
          </p:cNvSpPr>
          <p:nvPr>
            <p:ph type="sldImg"/>
          </p:nvPr>
        </p:nvSpPr>
        <p:spPr>
          <a:xfrm>
            <a:off x="985680" y="741240"/>
            <a:ext cx="4886640" cy="3665520"/>
          </a:xfrm>
          <a:prstGeom prst="rect">
            <a:avLst/>
          </a:prstGeom>
          <a:ln w="0">
            <a:noFill/>
          </a:ln>
        </p:spPr>
      </p:sp>
      <p:sp>
        <p:nvSpPr>
          <p:cNvPr id="6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74F28-A825-4262-B2E0-C31111AA3D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DD38F-5F4C-42D8-9B1A-D1562C4D5A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2" name="PlaceHolder 1"/>
          <p:cNvSpPr>
            <a:spLocks noGrp="1"/>
          </p:cNvSpPr>
          <p:nvPr>
            <p:ph type="sldImg"/>
          </p:nvPr>
        </p:nvSpPr>
        <p:spPr>
          <a:xfrm>
            <a:off x="985680" y="741240"/>
            <a:ext cx="4886640" cy="3665520"/>
          </a:xfrm>
          <a:prstGeom prst="rect">
            <a:avLst/>
          </a:prstGeom>
          <a:ln w="0">
            <a:noFill/>
          </a:ln>
        </p:spPr>
      </p:sp>
      <p:sp>
        <p:nvSpPr>
          <p:cNvPr id="6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B9BBAB-2294-482D-97EC-7C01226B49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AC48E-E439-4454-8583-C18F81B050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6" name="PlaceHolder 1"/>
          <p:cNvSpPr>
            <a:spLocks noGrp="1"/>
          </p:cNvSpPr>
          <p:nvPr>
            <p:ph type="sldImg"/>
          </p:nvPr>
        </p:nvSpPr>
        <p:spPr>
          <a:xfrm>
            <a:off x="985680" y="741240"/>
            <a:ext cx="4886640" cy="3665520"/>
          </a:xfrm>
          <a:prstGeom prst="rect">
            <a:avLst/>
          </a:prstGeom>
          <a:ln w="0">
            <a:noFill/>
          </a:ln>
        </p:spPr>
      </p:sp>
      <p:sp>
        <p:nvSpPr>
          <p:cNvPr id="6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6DB87-2AA2-41EE-AAD7-CC12FE438F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31989EC-7FA3-4600-A1BB-FF2603E8C0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A68F209-24A5-4D5F-972F-DDE08A193AA7}"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55FA29F0-3790-4C98-98B3-ED92C3B69261}"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65F75FFD-8147-403B-A3BB-63DE75E52BF9}"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C7AC9041-0523-4C8B-AEF5-1A0C315562DA}"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FF6E05B2-A0A2-4733-B8AF-91551B57A5C7}"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CC2DE46-E819-4633-AFB4-1EBD90A91DFA}"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40AEF35-F559-43A0-A17D-9502FD8B86E8}"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9015AE1A-280C-4B8F-B798-03F840E5217E}"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4314C581-3F37-4642-8D96-66B46BEA65EB}"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DAD94322-ED74-4C43-ACF3-7E761B017100}"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05768CE1-5DDE-45B8-AA28-75A160E352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DE7B475-5171-4E13-B1DB-BC4A98FC172B}"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D24A1BAA-EABB-4F80-8D4E-0D387DC27FBD}"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5950318-954C-46D8-B13A-780DBB7EEDEA}"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35DCC8CA-1B54-44DE-A59E-DC7076F2C787}"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8C43044F-067C-41F7-91FD-8FC47F45E37B}"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35A6C970-B48D-4C33-8BB7-0C5026A52B35}"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26DAB652-B4AE-47F1-B9B3-F55769AD2B87}"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D5DC2473-68EE-4083-A803-B435FC63B9E8}"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DC8CB6B5-2474-443E-9224-F04431D9977C}"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BB98A161-A753-43BD-8972-CFE8CD40A46C}"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6D1F7CE5-E17F-4315-AB7D-9BA3ED31FE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1167E5F-0FF6-4CCC-BFBE-C71179B29A4F}"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A180647C-0BFC-44C9-BB02-9EB794641477}"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29A819D1-B35E-49B3-8079-78994BC930F9}"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6AC5E487-C2A2-4709-8D54-A2FB4A674350}"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A332C436-DEC0-4C56-BC39-0717EDE4FEA5}"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AA248B5A-7253-4997-A128-25CAAF023707}"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1D7E80B7-6CF2-4466-BD7C-DC039793A6D2}"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02419321-F549-4F3E-9DF9-F8E1665CAAB9}"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C12EB37-8656-4E65-8248-7A8FAEF04717}"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D85F9826-8BA6-465A-BEE0-ACC92EE073F4}"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BD07BDBA-E632-45A0-9AB9-9863539766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A2823D7-B817-4174-B04A-1BF044537A0D}"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4E8D1074-07E1-456D-A586-13F3E2CD1EB4}"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F7279B40-9377-4420-A8C4-DD7071531BF5}"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7D6A5FB6-C9B8-4F2C-8DFC-6064DD9B8D5E}"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461840C3-C5D8-4688-B7A8-3A5F0FB930AC}"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A0F1E8EE-5826-4BCD-BA4C-0971CD1CDAE6}"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BE5A9BBC-FF37-425B-94E1-B43D748A38E1}"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8F60806-28CF-497D-B674-0D6828591BF5}"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268F469C-E468-4832-9BA9-8ADDB13D46A1}"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7C56E721-2E21-4C35-BDBB-4D16B2A36047}"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BF476B90-130C-4F79-9E98-0BFE2A0609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ABE26DB-DE03-45AE-BEA9-52947B15AD32}"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4D501A59-B624-4112-B3D0-7AD43614185A}"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5CA4E77-2707-4D87-897E-19724999CBBA}"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053F20E4-D0D3-4AA2-98DC-9AFE23EF002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12812095-BFDA-4531-BCB6-34905C39D8E3}"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752C92EC-26CD-4776-A9B7-3E41CD4E5F6B}"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FEE68C76-2C4D-4134-AB62-088AFA3901AB}"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3D32DCD2-073F-4E2E-85DF-53B9234A4CE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8418B009-9B86-4C6E-A5B6-4F7EAD3FDD95}"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A5E9D5AF-4F8D-4A64-B684-D2146C070990}"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D9BB7531-ECA6-4ECF-877E-3CCEC7BC189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0891EDA-55BC-4371-851E-15D207B13FA5}"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93EFFFD4-6AE3-4EC7-8261-94CFC709F74E}"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9A3F51D-19A8-40D9-8228-2D062EB33200}"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0A100C8D-427C-49CE-A134-4F23C085E923}"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4E38292E-B741-4197-90AE-B2E01D7A14E4}"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C8EAF6CA-ACED-46C4-B5D7-87189671740C}"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99BA4984-84DF-48D1-BD54-5A33AA6A0F66}"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0C1C7ADA-1D58-416F-86A2-DA1425352594}"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A1A90C47-A227-4FD4-A40E-E4E8BBD4DCEC}"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8A9EE894-F3A5-4E65-B821-21426A6BE2AF}"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CAAFF9E0-C300-414D-8975-42C890BF4C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3DABEC1-6EE9-4FC5-95FF-BEDF123FCA59}"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7044F9E2-4EDA-4159-9DB2-760882090C2F}"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3CEA8862-9020-4585-B5AA-F0948DC481B9}"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3FA9D482-2959-4523-BB59-523483B21EDA}"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EDA62187-5E6E-450C-9316-C6ECAE6EF0A3}"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4296AE5-C64F-4B4E-9737-3ADF79B3FE77}"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3FA0B4C0-A25C-4052-8061-60BB2220DE64}"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D1DDE5BE-9CD5-4DC7-81E2-8D5AABB96218}"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CE6F745B-A9AF-4394-80AA-A693E97B6D84}"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95870FE2-4FA0-4368-A906-049FFD3C30B5}"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73C369FF-4616-4288-B536-093E26EDFB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D5476E7-7E6F-4109-BC62-F902FBD8DA58}"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3B19DB6D-8460-4E5C-9C7A-0CA1BA30DB6F}"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67083FB4-AEA4-4B71-90EA-A3A57940EAAB}"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C79AF5ED-3F04-43C5-8869-5EE6E0877B81}"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070475F9-AED7-4E13-98A9-A9130639A843}"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DDB5AB38-F80B-4BA2-8F73-B4BAD8611DDD}"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12DCBE5-C4F4-4F5E-A528-8829400520CD}"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56B53AE-697D-484B-B02E-80BC2BD15508}"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00DDDC4-CB4D-48D2-90B6-ACCA329F7DE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5196D699-3BF1-4DA9-8D7C-3EC199F15790}"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E0D31FFA-0AE1-422B-ABDE-9C5637A7E9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9C62D61-70CF-49DB-A573-38FBEE9E3A5D}"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3A8C33BF-299B-48F0-90C6-F5EFD36F6838}"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3D2D8291-3571-4CF7-9A7D-DAA9C69FAAE4}"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5807803E-4822-4576-9D7F-AA315B745891}"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5273F3CD-077D-4733-BDD7-3ACAE3C3D5FC}"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EE28A628-F9EB-4C9B-8A46-94CB91F0AA85}"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05BF1749-87B0-4436-8C89-CCE848A5D62D}"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F92FDA55-6E7C-4699-A846-84EBD61D78E2}"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619452B3-63E7-4312-A53F-ACAE98A4015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AB53DB1A-17F3-4729-A5C5-B15ADB6A3015}"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4D5E5A7-DA2D-4F46-98F0-B5DAF70AB2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8E0252B-8C95-4ACE-AD11-33D61797A85A}"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B444B3E7-1217-4790-AC49-7EB81DFF2A45}"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870244C7-FE22-4A4B-8AA7-7A91EA491888}"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05194A70-310B-4128-A705-951E35D384CC}"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D7C143B8-9E09-4BDC-B56D-9275F2A5F90B}"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ECEE1C55-0E2B-479F-9556-EFA66622505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5F53181A-0866-4770-AEBE-D5C581956457}"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FD743498-DBD0-4983-A53D-DB791FD5EA6B}"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79E4B0A6-99B4-4E18-B3DB-C3B4BC8B7E7C}"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2910FE3C-CF90-4EEC-A731-677780C49AE0}"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F08C3E41-C8D6-435E-B603-31724D8A2E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2B56692-E9E7-4EB0-8A2B-3C0A60D2D2F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C1375A0-58E9-4E64-B815-0F6CA262D3BF}"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A57B8448-E62F-44C5-BC7F-CE564DF1C229}"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7718D72F-47DD-462C-A5F2-605315126D72}"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70354D8F-DB21-4816-B4EC-9EF987C12639}"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2840BB7D-B668-4D19-946B-CAF1C8CE071A}"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7B51A796-90F2-48C6-AC9F-E3A59D3EAA91}"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A5434154-F47C-42E8-8FBA-4BC0515C0FF0}"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C9B7B3BA-5AF3-4ED9-8D66-B3AD5DCC807B}"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8CDB8190-E109-4FEE-BEF5-A040A191BB05}"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D325F45A-5BB4-4D7C-9261-8E0B647304D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A1CD71DE-C038-4038-B18D-9AD0C8F6F26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A77876E-9174-4DC0-9E9F-D9C5C0A2E2A4}"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46EB2CE9-A0D0-4078-8346-C61D1BC92F12}"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81F370A-539C-46CF-8A48-8E854A7D3AF9}"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5721F031-27C9-4829-8AD3-C46C6B5AA38E}"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5B5F956-822F-4092-8CF2-1B382808D9EB}"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32A92B66-8725-44D2-995A-D84572999A2B}"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D11AE63D-E1D1-4028-BA7B-31874D638DD8}"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00FA3C9A-817B-4DD5-ABD7-F0E8802779FA}"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1BB8BD83-1453-4F22-A6B3-6BBE9E7C1D89}"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3243F7DC-7520-4976-A57A-9273A5A654DE}"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E2007ACB-58F4-40B8-B3CE-A219F6195E2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69EAF6C-6D69-4AC9-A3EB-101B331CBA75}"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2D797E3E-CC23-417E-8FFC-6DAABE491C01}"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CC7CFD55-49D9-41B0-9E43-95C8A65B5966}"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9A7724E8-B8CC-4D0D-8F16-FE55C1837351}"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67581305-0D5F-4BA4-B051-5F1E66965A31}"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B22202C-7CAD-4C0B-B3C5-1374DED6C094}"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6F55140-0122-4213-86D7-C9E3D2FF7C1F}"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5BCD8588-6AE9-4E9C-ABDF-47677F52CD28}"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1A553985-298D-44F4-8875-42618460EC41}"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665E3E57-4EBD-4B28-B974-171C92BD704A}"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27F6B3FE-8619-437A-80DE-1028770295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E338341-5D96-4794-89A9-82D27628E648}"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633D9C45-DF3B-42F5-B381-282EF586ABDF}"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FDBCEC3D-BFE6-4ACC-8970-786C5779A14C}"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8956E80B-E865-4E57-9D78-5E251F714CF2}"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C0C47276-CC14-4232-A0E2-F20737B31201}"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F19B6363-CB0D-4B5C-AFEB-5D4FA05CFB54}"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9E0E1B59-7387-453D-9C40-7D2572F604D3}"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29493A14-9457-4034-9F6F-F41B394C07CF}"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40E043C2-B5E8-4523-95A9-1A677ACE754B}"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604B95E-BD6A-46D6-B8DA-FF2EA5990D5A}"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5CEFC469-8C77-402F-8497-FE7555D449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AD206F3-4964-4195-81C6-5F259F64D81D}"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63CAC221-0C89-4B30-BDA7-90C6417F96CA}"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E751DB0C-B377-433B-B866-3D7BE8E6A960}"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9B14BC25-E6CE-44C6-897A-7BC5CE849A20}"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FD9B1AEC-3C75-4891-B4E8-57F529E7DDBB}"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90FCA3A1-B41B-4778-AC66-7D151EB1B97A}"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7A9C9ED6-7D4B-4E80-823B-71EDA9C36AF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FE53E22B-D8D8-479B-97E9-F9FF01777073}"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BC1AC91B-6DC8-450F-A1D2-173792F01691}"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1EF5A3EF-685E-4608-8D12-217597AC334C}"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9CB416A7-937C-4A6C-BEC1-0EFE79EC67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629D992-9422-429E-9FC4-CCDB59262D84}"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BFA03FA4-81B6-42AE-8B9B-1CF976C13C68}"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0CFC74E5-24C3-49DE-BA81-A03927BA5CF6}"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21FE3CE9-145D-4A82-90A8-F7797C6AD80D}"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C433EC05-ABB0-404B-BB31-ECB967A97320}"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D0E35F08-7491-475C-931F-92977C4B59D7}"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465AF303-5438-42E4-887E-F1D0B138EBC6}"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B8B5E06-F5BF-4E4E-AB8B-D4678C37DB25}"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4668C66E-E08E-47B3-8772-0EC3E685DD99}"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A58979B1-C41A-49D2-92AF-005AAA835314}"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CC48A563-B0D6-4C05-906A-D80A534E734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E33C8D0-CE05-4D53-898B-99EE8BCC1F78}"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98E04F1-5CFC-49B6-AC6D-518FA47C2E76}"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B32F103-6087-44A4-B812-DD40307A23D8}"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FA4F948B-4D9F-45A0-9B85-2CF37119DCF7}"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87BCDF6-23FC-4A7D-A962-882CE02E8601}"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AD37335A-EA41-4216-98EF-C2868DD37B1F}"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0F1D9051-2367-4E4B-9F67-8D264E42BFB3}"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DF479955-2796-4CEC-A1F4-E63FEBCE7F4F}"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14B787B2-B0F2-4B49-9044-C1DDC7A9ABB3}"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4888C52B-0D32-4E6D-B130-7D1425796C28}"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700CB817-E537-431E-84AB-6274C88B2B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455125B-CDC0-4C72-AD1C-65B87686074D}"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8DB0A26B-72CE-41E1-B4AC-56F706BC7DC5}"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0596D8A1-D868-47E2-AE5F-FD9764421C48}"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E003E252-506F-4A0A-9328-400619B7F21F}"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6FFD702-93BA-48C0-BDAE-5259C5E0E6A3}"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E99DFB02-5A52-41F3-BA54-8546C8E921E3}"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BFD5C868-8AF8-48B5-A30B-C1BE68C5C9C7}"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94B2F91A-DDD5-4BE2-A568-6124BDB9CBC7}"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9D6B41CA-87B1-4CBB-B333-47EB06587B02}"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65D6B248-8037-4ABC-8048-6FAADAD9D989}"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3C05F1DD-A0D0-436F-9193-CC6AFB5FF5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C966412-A2B4-4943-A4F2-E834132F8E77}"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49C277A6-EDD8-41E6-9D48-A4A58F61FDDC}"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2F084344-0CE1-413D-8CAE-48D72B6C8CCD}"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3EE0C049-67FF-4444-8456-09BAA23706B8}"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20F86223-B2FB-4852-BA5E-8DB80F158EA1}"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7579626-E707-4838-8091-620E18A2B836}"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74172118-EDDE-48B4-8721-97448ECA2039}"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E4B09E3C-D5A2-45AA-BF45-50BEF5EBADCF}"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2A5A1679-4874-4F8B-92DF-217362A65EBB}"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B306469D-AAD7-474D-9847-E18038F2C40F}"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20FAA40B-E0D9-4CD2-B4AD-FCF0A990809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7FFB518-F158-436E-A118-5469BE95C2F1}"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D8858302-8F9E-4349-AE93-298B48DCF176}"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7ACDA4DA-C57E-4EC5-86C0-8E956123EF43}"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316785FA-0BDD-484F-85A7-31F044592E36}"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A19D3912-B129-4EA6-9F4C-21E3C3E33BD6}"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FB89ACAF-93A8-4434-A384-0D7EB6D59B0F}"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2E130A7E-CB84-4B52-BEDF-F7651BC896C8}"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D33B1F31-4EB9-48D4-8FD3-8DF006D7EA15}"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6C5ACB4B-E358-4299-92A7-24BE48702E57}"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0223F965-BAA5-4122-8A7C-3D5751A0DCD1}"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E302423C-FAC0-4D3A-8EB4-95CA71CE2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C537897-8AFD-4C34-990C-E9DBF46283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AF403B9-B0CF-451F-B4FC-7801C8AD2546}"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F8E4DD0C-5C4C-4B06-8C55-89E494D21C2B}"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7AA82DCD-6F70-4B9E-A35C-F0D48E70CF52}"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75CF5551-4EB3-4802-80E3-EF3EA7FDD574}"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8ACB7056-3EC9-45DF-BE65-210D5991E540}"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09A8F825-6F35-462A-8826-1EC19C404140}"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A74040BB-4D99-46A0-A5C0-F22D43E38713}"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E97565CC-5D52-44E9-A96A-EE8BE3D7AC9F}"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AF56306A-B288-45D3-9E29-B307B279B2A1}"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9863040-85F9-41D0-8F5B-E1814A37A4E6}"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A0BAAEE-7ECA-433B-A3D7-E316CDF13D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C300B79-7024-41DB-B80B-8442303E749A}"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2800926A-19C8-48D5-9E69-2CFE4D939ECB}"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7AA2EEC1-15CE-45B4-AFAB-7684500772CF}"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276EB068-33FE-4BE5-9E5A-F69112059CCC}"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BA49EEC4-AD86-4BDF-8550-2C9055EABE03}"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7B6A9423-88CF-4484-84B0-12B46A741857}"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B89EBEFA-5659-457E-98A0-A1941A963085}"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7659B0C9-8253-4A15-96A7-6634F9BB9D0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AC6C31A6-E144-4B42-B584-43D0C7695564}"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A44FEA79-4DC9-4A52-AFEE-D8568A457A33}"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47F039CA-B8A7-4BBB-A691-2C42886E5E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B653589-7AB7-4976-BB89-0B43E84962E6}"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56880F2E-E7C1-4430-9B3F-FF819183DE1D}"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E8A8C055-4819-4FA8-836C-213EBAA06A0D}"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B969E493-2F7A-4D55-9894-B7D698A388E4}"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D8E8B5A8-6996-491D-8D22-A4A2104DB0D6}"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BAFACB79-16A1-4927-97E7-4BD2B29C709F}"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224261FF-1606-44D3-99CC-96BE4BF7A2CC}"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E34D1146-517E-476D-8317-65CAF1ECAA5A}"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2FDAC0A5-C5D3-468F-9302-603D575400AD}"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D8B23AA8-64DC-42C5-81D7-2B29E2C10C66}"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B591C2E7-509D-4321-B61A-B45EB2A6C6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1B6263E-1FC0-4B11-985E-3D7EA823B1C6}"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CEA90C3F-3D34-472E-A8F5-478998A7E491}"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56C317A-F385-4458-BABB-703668456F83}"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DEECEA1B-7708-4523-871B-4E134BEA75CD}"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27219060-F4B9-4E9C-B82A-F742B9F339C5}"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3BEF83BE-1FFE-4F35-A478-DE4EB7FBA242}"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BC36CF24-CEA5-4997-B2B2-1881E113F02A}"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A6AA42F2-1922-4964-A416-DAFAC3AE9EB3}"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1F744CAA-2CB1-46B8-A989-949CDC43CF27}"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3E284F16-D1A0-45A1-BFA9-72F35FB74C60}"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D477D74F-0A14-4280-B0FF-C4469C77511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091FC68-1E09-4E40-AF5A-7B28146F6608}"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9E709417-90B9-4AB1-9155-260104E8CD17}"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D9CBEE37-4E80-4658-B022-8F79D66C3DC3}"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6EAC32FC-4872-4982-9646-E065D8CC63BA}"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B65C9E91-C763-4030-B817-3E466B365FDF}"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FEE7558D-8C0E-4A11-A61D-948DEAEBFBEF}"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5FECF3A-4ACA-4221-8D6B-83DC32122DC8}"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E7809477-7B56-44A9-822A-5DFD9DEB4E9A}"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68D004E9-1402-4470-AB0A-6A3906C6FD34}"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C486FB93-BFB8-4F68-8E96-5881F70306C2}"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FFB13823-4181-4E7E-B13F-2077297288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1253115-3881-4BF3-8CC8-B3BF2BC29FD1}"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0EF901F8-3C98-45FE-99DD-E5A1BF7DFC8A}"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9EC7F431-4A22-4C84-B316-FDA3B98B942E}"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9C49BD8F-65D7-4137-816E-9F996100BA89}"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D7CBBC05-039C-4C64-9B1C-CFEED534C700}"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A6BB8050-C5B2-4504-891F-4E72E22967D2}"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5E4BC31F-7886-4B0F-87A3-FE5EDC0A8A3D}"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EB92202-C1FF-4E5A-A526-AE3436640089}"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945D464-1C81-47DA-84B1-2B758FBC27AD}"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EAD4F322-9EAE-4A4E-9E7F-90086CF7373B}"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578CDFD3-A27A-4740-938F-D52BD01929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FBB25C5-3505-466A-88B4-DBA3CE4B6256}"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19C58E39-F45B-4AFD-ADE3-67D212D5A90A}"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4EAF2181-13B3-4F41-B57C-817AB67A29B6}"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9F93E7D3-FD52-4738-8CED-0EEDA5ADE9E5}"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CE6FA5DC-C1B3-4038-B40B-690714850B44}"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93A76013-955E-4044-AAE2-9ADD3051A673}"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727930D9-8A35-423A-9E9A-B3323B73EE3D}"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2DD2F98F-A98A-43EB-BB1E-3969F900A518}"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052E3B27-3FDE-4144-A8A6-BB9F0A91CDE3}"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32816F25-4EF0-4226-BDC7-8FD2CF0BB3A8}"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EE5554AE-F1A6-452A-A1C6-FC647BD1EE6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BD58955-3B7D-40AA-AB64-418E4972DEAC}"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7E90D43C-32A4-469B-A7D3-A7D5CDB28D7D}"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D4BDFB75-6D4D-4F4A-BA71-F9A67043D6FB}"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F1A31CD0-3E3E-4586-B5F3-6A572CABFEDE}"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36850566-1F3D-48C7-A0DB-C84E98AE1649}"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4E02251E-28AC-4F1F-A81E-B8003886190C}"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D4AFF0C6-A0DB-4736-ABD0-96DDE80F6D27}"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FB1E3251-99C8-4FC2-9AA9-16F18AC4959E}"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CC430EFF-022E-4AF2-B01C-B525FEA3A40E}"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2F728311-966D-48D5-8503-22CF91A009A4}"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AFC70BB-88DD-4517-A538-18901C6161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47018EC-35F2-4738-9518-766D5040469D}"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E4266844-5185-453E-A672-9311DDBE4BCA}"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E916D40E-5C64-4A89-81C8-6B854B7EF132}"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38E685AB-76DD-4CE4-B2D8-E0754EFE4E90}"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DF330861-D6A9-4EED-A71F-5EE69D0569C4}"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F0958193-C0CA-49E7-92C2-B9F09F16D379}"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4E105E60-4BBE-4D5A-B373-3EC5462DD75B}"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991FF3D7-0335-4DD6-947B-3C4C3A928D36}"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ECAB69C7-6906-4689-8439-A9A44B3EFF77}"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34BE63A7-90A7-489B-AC2F-65860B08A11F}"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5BFA0932-BA96-4F0C-9F70-78E2C957015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B86EA66-3868-492A-9527-4431BE58D76A}"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C6617468-5BC7-4DFA-9D3E-0B740E15A384}"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D6BD228B-CE19-4B90-8F33-9C88C8703D2F}"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C3C3D213-6025-460B-9C8D-3430605AC25C}"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9256A891-3367-4D73-9C14-9D62C38ABC35}"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88B1ED80-4476-469C-B75D-E3F1AB4BE906}"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EE303BE2-5A27-4FDD-810C-6D38BC1FAC92}"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7F8657D7-8A7C-44BA-87E0-0B2FC439FECE}"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74EF42F6-2FB0-4C1D-955E-B1A669AD08A4}"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EEDCD092-CA43-4C15-8AAB-6031CF3172A6}"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0F992CE8-A852-4DCC-AB64-44ED73276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1D2208-1CBD-4B29-8BB5-5EF7089F34D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65FFB06-C6F1-4F3A-80BA-53E9BA72CE0A}"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3AABD604-29AD-43A1-9AB3-5E4D869D7F2A}"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8F25F814-3E03-462C-9268-E0194FF43FD5}"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A0CC8683-558B-4CCB-9D86-7D3F3CCCCA4F}"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F113541D-2451-49BF-AD5E-7143A3F86166}"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F33847B-385A-40B6-8615-D49EFF08F16D}"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7673361-E191-4EDD-9787-52D563D78A15}"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131614AA-BA92-4C4F-9807-EEC232A6713D}"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C9FF97CC-66CD-42B3-9088-293704226B14}"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9E81CC4D-FAD2-4FA7-B209-D7D9A5B8D971}"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20933330-B86A-4F54-A056-1109685A71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FB0E92E-9F1B-4725-A36D-8BDFB2B2692E}"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C8A665B8-1B20-43E0-A473-5EC2BE740D9F}"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E37271D5-68A0-4FD4-96F5-5355EC2CEA41}"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21219A3F-DDED-4325-B52D-679A6C3F3314}"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8B7B1D4D-C478-4B8F-AEF1-201D48F63502}"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1AAF2066-7EEB-47C4-B340-F8819C3AD418}"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AFDC510-0B3B-4BEF-B042-A9B1C21998E1}"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6625716-8244-40C7-B1B6-37BAC62DBF0C}"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96D3715F-1021-492A-9C8A-2495987FFEAA}"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394261CF-5879-4AC9-9AD0-24A7576A0E67}"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6DEACA32-0C1A-4B48-84FE-BB1DEC4B22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BD4D50C-67C2-4CC1-9753-4E393E79A870}"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27B65EC9-1A4E-4985-8996-E152CF7B5808}"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64FD9583-8C09-4C96-B0D6-61FADFF71B83}"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3025E166-5315-4B9F-8C35-65C5CC68BF0F}"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59EEF01E-D92C-4756-AB53-3E4A2BBBC399}"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ABCF7D72-DE96-4F7E-975F-5BFCA8A1BC2C}"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F8832082-0079-471F-A00E-8AE09885FEBD}"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967CF1A7-49EB-4A86-BA6F-918553C3EB3B}"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427C8889-534F-46E6-862E-03A0437953F6}"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C752715-30D2-4C26-A0E3-98C1607EE251}"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E64DDE78-E07B-4945-9448-840A0D9DDF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B21A351-2271-47FF-BFFF-C42D21E86794}"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12A21FC5-4EAE-4C09-A24F-1D2B8006D9B9}"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7AC2B3B2-B13C-4592-9B82-877BF2D63137}"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8222466A-15B7-43F6-ADC5-578E6606FF38}"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2B193C3F-BAF2-4C97-8A5D-83A85436B4E2}"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EE2DEB2-E0D2-4048-90B0-3603F06C0174}"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68DFC07D-A683-4B9B-BAF8-683C3767D2E0}"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5258D15-FDD9-46A4-82F2-A053C07E2109}"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B0260A54-6717-40C2-954C-F2C79D798B84}"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BBBED6D1-ECB6-4641-9F57-EAAC54AAC220}"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13646C06-054E-41C3-A0C4-47D179DE62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81DE897-A30F-4C99-B817-67367D8782BB}"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601E4559-82F2-4938-8EE3-53DE242E00CB}"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CFAFF1A8-DDFC-469A-BB7A-F0A4B676A5B1}"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F8717848-5AE9-4E33-AEAC-3C0EDAF9B817}"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6A079378-994E-4A2A-835C-17966F2BCBE6}"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735C7B40-2593-4FDF-B862-8B874EC2288A}"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1D8263F7-6D82-412E-A731-E75B8C94B761}"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9D447A46-53AC-4D13-B99C-AE3A6998D4B3}"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5415EDAB-86FB-4661-867E-0F457BBC3D57}"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2F795BF5-8CFA-4CBF-B23F-950FF06C1626}"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5A571AB1-725A-40FF-9ADE-00ADEBB3EAB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F541A1F-93AF-44EE-9924-3BCABB86CD85}"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2CC52F24-9995-4941-9B83-083D1DC31D42}"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82D2BC4F-6E2E-42F6-B1B5-A7DD7733346C}"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BD3B52EC-95D0-4388-9082-8183117943BF}"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4B89E52D-A6FD-4EDF-8A05-7FA2097626A0}"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F1FA321D-89F0-45C0-BB9E-13F19BC77249}"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377CB792-FBD7-40BA-8CA1-C0572087ED8C}"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A4B53321-45C8-45E6-A912-2A6372B595B7}"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6E63FB80-A231-4BC2-B3CB-0A55F5B37E93}"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9C20CA02-AD54-4A41-B4C3-C5C9DBDBAB33}"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9693066B-AEA7-4097-A7B8-A4C6B345FC0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EFCC01A-743C-4BD4-83F9-D4307BA914AE}"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B6346719-A740-4242-98F5-17C7511F0B4A}"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872C3F40-C046-4CCB-B130-3D5FD5EAD50A}"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DBD7CAE5-4AB6-4CAD-B05C-6FF6EAE42CD7}"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35EFECBC-B556-4F6F-80D7-99845D70D222}"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B0357D99-F2ED-4361-8336-8DC2498B6DE6}"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A6BCC181-ACE3-467F-8412-2099C929C5F7}"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2AC52AFD-A9B6-4B63-A493-953DE79E2D3A}"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10355717-14E2-46C7-9FDD-FF1A6E8F3AEF}"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DFEC850C-23FF-40C9-852D-D8D5ABAF6E99}"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C3866F83-57BA-4990-A136-FB7AF54448C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3A6DA4A-8BB0-4598-B4AF-AE9583796364}"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2DC8CB8-2B43-4772-BC53-5939DD27E1C2}"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D9B14410-781A-4DEA-BA34-93E8DBE0F408}"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D511343D-7BCC-4C0C-BC91-13CDBEBA1156}"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063151ED-338C-4F80-930B-3AFB581F384B}"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F2CC868F-1731-4246-9733-ACF28094C4CA}"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E58FC191-0E15-47CF-819B-5EE925D01AF6}"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05F525C6-AA55-4196-9D91-5360FB515567}"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8F1A841C-FA7C-44F1-806B-24DF70224B33}"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4D6FB391-4FD9-43EA-B9BB-5733BF154860}"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267829B6-E59E-455B-9682-2FD27F10A8C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6574E85-EDD9-47F5-8F19-45A2D53481B3}"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F899D6D1-AAB0-4D4D-9B20-F537D3493EEB}"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592C4C83-04FA-46FA-9830-4E81E68CB769}"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8AE84CEA-C6F0-4C3A-A40D-48D4CB13DFC8}"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D5B4FB93-EC52-4468-ADC2-362083ED4A50}"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F776C287-D5F9-4570-989C-B0B2D5879F77}"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6923C59D-F1AA-4808-B59C-C9D834D0E8CC}"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548FE1ED-B19C-4960-A93D-ADB2AE74D0CA}"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A380DB07-3749-40D5-92EA-59CF76E4ED04}"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6F60E5E4-14CC-4582-8BF0-D1097BFE42DB}"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78F235D-28E2-4582-BADD-29930B00B3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2970258-EFAB-4037-ADB9-4A6F136A13D3}"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68556351-835E-4406-99C4-3CF3A1356D5C}"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FB40DBD2-BF44-4F1B-B701-D87CF43198C1}"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D8D97793-E812-4678-9B5B-2965ECB4691D}"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3C19B0DC-18CE-441C-B5AF-4063DE336981}"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11ED1CB-D2D4-4EF0-9B74-CECC6FD04A24}"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39DBE5A2-8136-4EC7-AD02-D12962C1DB67}"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10058034-7050-45C1-A782-020114573D02}"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EFEB0D7A-79C2-4473-8E60-85CDFBC06854}"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C43890AD-FBFE-4952-9147-74A62B69FB87}"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C81A3BC-C50B-4657-8B5C-992A866D1D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D51042F-831C-4EC5-9C9A-C3271E2D425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D6443FE-9004-4A28-8644-FBC4241B281B}"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D615EEE3-B4DC-4C37-964F-DEA05BAF32B8}"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DBF1465-D9AA-48EB-842D-67D8B4B3A694}"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0FE6BE9B-BE5E-4E2B-9989-7AED7095908E}"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6D3734B6-1C8B-44D8-8FA3-AF88FB9C37B1}"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34EAFEC2-528F-47A7-B3AA-B3A2E2BD829A}"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791BBFA0-3D52-4054-A018-7074EB214EBF}"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56923016-F14D-4070-983D-045C107B552D}"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C13715A5-8898-466D-8EE9-ECDFD86CB3A1}"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D1CA9D8E-CF07-4D8D-B63D-9E7A7F09D827}"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3BB86AC1-0302-43AE-B4AE-D417C72441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C5575C8-890A-4287-86BC-DEF163CBE26F}"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4FBB0140-338A-4353-8A6D-BF963FE5C353}"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DB6C7F4-2751-4D32-8BBF-7EB2E5B60B43}"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F014378F-860F-459A-ADB9-6661CDA7AED8}"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3BB1FCDD-DF44-421A-A603-ECA2A6B5B9E7}"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4F7E68F8-8729-48AB-91FA-2519862E9040}"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8D1098B1-4DF3-4DA4-B8C9-3C9DD691947A}"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AA55C57F-FE5E-4788-86AE-E3F4BCA09255}"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14B500D8-DD00-4F39-BCB7-042235D42493}"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9C8BD16D-0F88-4F69-8B22-A4BB1893E4DB}"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8F0C0D08-D7FB-45D8-9ACB-3AB26549FA7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B3BFA5B-21D5-4330-9FAF-720D0E701302}"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395BDA75-81E3-4AFE-B4E5-578FC3C039A6}"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057BF683-E8E7-4749-91E0-A720A4B1E100}"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D746B86E-3A1D-4D69-8D96-502DCD233120}"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5979AE9-77AD-4BAA-9C68-A4B14B05892B}"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85BF8F89-77CB-40C5-8D8B-54396B56A6A0}"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1150C477-EDA1-4625-BD40-B0701CA98748}"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4BF22802-165B-4B7B-A68E-6979C6F84ED2}"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7DE457E4-6153-4BAD-8AC7-62479A9AAE5C}"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E6A43E97-E960-476E-A049-350B699A06C2}"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911D61BE-B0BB-42D1-9FEA-4751827144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9B7845D-A12A-483A-9FD6-F1F363474963}"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4FC87342-07E1-4106-B8F6-0B80BB8169A1}"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9107899E-24F1-4ADD-AC52-D2419D06353B}"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42C82436-5BA1-42FE-BCAE-CB85FD98997A}"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1A7EA509-69E3-4723-B34E-118FB9EFB32E}"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DCA013A9-554F-44CA-8811-5ACA8AE5B6CE}"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D68A205E-4C6F-4B99-AAE4-51AA6264C74D}"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6335DB83-2F9A-4979-BFC5-5450B1FB7D13}"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60A675D-1615-4AD0-BB1B-D9D83F59E612}"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C43951E3-C88E-4618-BF7B-50557D3401D7}"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75E0B17B-6E91-4329-9EF2-1FF5C5F978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581D2E2-FAD0-4F6D-878B-03FD5C0823DB}"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6AF60D66-F970-4845-8CD6-675F2C213382}"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D0CF4AF7-38EE-4745-8BCD-8FFBDEDAE026}"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51E5182D-0B5A-49B7-BDED-252FD80346B9}"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399CBA10-EB90-46BC-82C3-5498A9ABC0C4}"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3BFBAE29-153F-4D20-A1BA-733987894C39}"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F2D25AA5-9C9E-45D8-8165-8F9ED0E57D3A}"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A44F388F-24EE-4F36-8257-6C7013741623}"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86D1AC4-A7BD-4362-8023-0CEEB78886C5}"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A620939-3979-4FCB-A00A-6BE33BF7E1AB}"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01AD779-BC62-43A7-ABCE-079CC4509A7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DEA93D9-5F6F-42D2-8049-72887978A5B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DF4CAE8C-0AC0-4F58-958F-D776DAE88267}"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ABE963CD-CD92-4F05-BABA-267241348EED}"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4E5CA24A-BA2F-4CD4-A7D8-FAA7A8D99869}"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7CF762A0-BFA6-4D8B-A655-58934444849B}"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5DEEEEE4-45B4-4DE3-9B58-24021F3F84BB}"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FF1579D8-153C-45D2-B2B0-B6A505A2E4A5}"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59EF4824-44E1-4822-AB42-0358CEE7E2C6}"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791A27CF-449B-4B37-979F-53CE8E0F7191}"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BF6E3828-7B23-4F4A-B299-7682D8538B01}"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A15093AC-B572-4F8B-A3CD-936422484E1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E74D8DF-32DA-4010-AE5C-6BFF7DE5F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CCC96A17-5608-4A06-ADE0-3B784C0E8254}"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14F533B-B109-4D1A-983C-84A97B1CF8E8}"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E89644CA-29C2-4995-A101-55D364913CD1}"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A2E1A718-6E0C-4DA7-AD46-394E8CFFE652}"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906EE4F1-AF7E-4C70-98F4-398FA57702CC}"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3D052D7D-C767-471F-9B83-20DF7B311C26}"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0F4FCBBF-93FD-4387-9F78-4F7417AB8C77}"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494D45AC-B03D-45D1-993A-EEADB222F462}"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234F82F7-DD75-4DE8-8881-2ED1E371A241}"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89426515-1B4A-4112-BDFA-BF9A08CC53D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076207B-1BB2-4F70-A24A-A1D5F7EEF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380C442B-1569-471C-BC32-EB9145B991E6}"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ACDFF643-F18D-4EC7-A5F7-8D8E7FE01036}"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C2178DFA-9916-4B2F-AD1D-3BB8293122A7}"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D3F3520-C7B4-40B4-937A-9DB9C4DC0C85}"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37421BA5-78A5-47AF-B725-B96DCB44F900}"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BC5659D4-C400-4FC3-9D32-4612327E0A58}"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076995F3-1210-4A66-AEE2-DACE92AA1596}"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D67298A4-19D8-4B1F-857F-369C85F1F2AE}"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EAB550BC-7A21-46CA-B298-0A36FC461A75}"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86BCDDD9-5D05-4A61-A203-28CE743134E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ED7FEDA-7D32-4A71-8872-8E5FF450E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59C5B941-3160-46B1-B374-BDAD18564337}"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BBB0B643-AD3E-4166-9CE4-37E8A0BFEDBF}"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90125ECE-ADC3-4AFF-9B69-129E7392B973}"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842852F6-FA55-4750-9746-C7DC8CB0336E}"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073360DE-BCB1-409A-AFA5-7EF4E177CDE5}"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F8EEDCEE-353C-42B1-BA74-4A0C07CEF02C}"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56B237F1-E436-499E-B0F5-D4F3DB0D77B0}"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83DFC369-4B39-4F77-B160-BEDC272AA4BB}"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1F089B55-81F1-4D4A-B44B-72F4741F24AD}"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AA341692-8417-4FAC-97AD-725851E38F9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85BBAA6-2CFA-407C-B499-C7C83138A6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BB346576-FDFB-4B28-8278-CBE2EE680EDF}"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F4C5C009-D1E5-4511-9013-CF26CCE85272}"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C23A32C1-3966-4062-9271-98D2EA15F50D}"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B0727FA4-7AC3-4D85-AB6B-6E812B1D9CBF}"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00FF0A00-AAE8-4077-A5D1-D5F286E337A8}"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07B44841-C5B7-4B93-9E87-09EFE9305C30}"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DDD57D40-4123-4C2C-B5D7-54146100C9CA}"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04C7199D-1B22-4F63-8D2B-79025BA514B4}"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56539710-FAFE-4B35-8D81-60236132041A}"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F31C5E19-49BF-41D3-B492-01B4C96BDA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C6C8748-F7C7-4B4E-A5E9-AD9C7ECD669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E9A9C9A-B761-4B93-AFF0-E8E6FF7A91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82E270E5-27A9-42B1-9DBA-7D7C998171D8}"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05C4ADEB-3478-4DAC-B804-AB582B41A652}"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2D08EE5-5587-41E3-AE56-CE03FAAD90BF}"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102FFE5D-59EA-4BF3-9E6D-041685B1B88A}"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9F069CB-4E50-4F0E-813E-6B3A1389DC8E}"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39C47D7E-F82C-413E-B614-9204FD6B8292}"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518849AD-04F6-45CA-B593-9C65E5A39B1A}"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23BE568A-9C20-4A6A-B8DF-154C841E629B}"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875D7B6A-6772-4DC2-B88B-33FE30176320}"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0A927F7-A0DF-4DD7-9591-2DF5FB7B840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FB0A97A-A199-466C-AB29-B89355B67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859F0013-5FB1-40B7-83F0-8F700DE6EA86}"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AF87980A-4839-4B11-A6F2-00D17BFDBB86}"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CD70F9A7-7070-4365-81A4-A9B06607ADE1}"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8E582220-9804-41DC-AB0D-DEECC27ED524}"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D0A1476-23DC-4C1E-941F-0D253381A227}"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5F03D22E-5CD7-4BD9-8614-29175EB5CAE3}"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C0DDC3FB-E45B-4B4E-A762-7B5F17B182C4}"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023300BB-72D6-4D90-958E-4F2BB4A11DD3}"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8D485E1B-1C67-4C88-B086-368D1FA7579A}"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875155DE-3A38-4F36-B73C-6AA757F8F44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0882EA0-A7BF-4D59-80C5-4724E892E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CB787C8E-DA0B-4629-9764-62D3EFF353C8}"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5F382D8C-DFDE-49DA-86FF-490273AE44A8}"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02B6B0CC-6476-43BB-BFE2-9B30F0212D49}"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6123D36E-90B4-4E96-BF3D-BB9D7ACDF314}"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DE81C068-F941-4E66-8BD5-23F2B77EE0C0}"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D56503D3-6D6D-4A29-B0B9-B45CFD737582}"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2FE963C1-C82D-4D77-8FDF-EDAE7C5A65E3}"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1F9E1A1-984B-48D4-8747-7C926E60EC4D}"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09F2AA3-4571-46C6-98B0-4362D3D88FA1}"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B5919272-E1F4-4FEA-9DE5-BCC45995DF3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E9B79BF-34E0-4EA3-83FC-174F6559A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57243BC0-5DB7-49E8-904F-E7026A04D59A}"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05560A6B-4996-46C7-B64A-A417C5195BE4}"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AE7B86B4-7B27-4466-B360-68527CCF4390}"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836BFDDB-2DAC-4BD3-B33B-833017CF1A10}"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153B2371-15FC-4EC3-B049-165C6D2A5E3F}"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7EB9CE2C-5EAA-4B89-A411-EBD15D0118AF}"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143CACEE-D6BE-4182-96F8-1297C320B804}"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6754AEE2-5332-4CAE-8146-3870D4497BF1}"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AF0A1586-476F-4D8C-A22F-D77EBEFFA6CA}"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2E3A5B85-B31C-4FB4-AEC7-3C50DA9CB39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F5734E5-C35B-4854-88AA-99EEB6903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09DD1207-0E45-4608-A926-CDC7F7B833B3}"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B7644F2A-9C99-4D4B-8265-C6C3C20B0CB5}"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297EC598-9E63-42E3-8704-0AD95D807282}"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381B6071-C83B-44E1-877E-B26826AA9427}"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8E5E808A-B0E4-4108-80FF-095EA28E80B0}"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1B2C4EFE-5F44-4878-9370-116670FEE396}"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882BFD93-8C79-4B71-88BF-E7313D727FD3}"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382C71D8-A562-4444-A100-A4151B6A68AE}"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2E37CAA0-7437-46DE-A5F7-950537D4CE8D}"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3D540713-5700-469D-B18B-47D98C5527E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32D05DD-ECB7-4AD6-AB4C-E94DC38A4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E3F059DC-E062-43DF-AE56-6D2FD9EF81C0}"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6540635E-8E4B-4FFC-88D4-F78703C16316}"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1EE398A9-7C46-4FE5-B601-584654D76F18}"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4AF8F639-ADB1-40AA-82E6-ED5C9779690E}"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A7D5BAEA-9BA3-4EBC-BB9A-71D1F18C761C}"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58412F86-6829-4A09-96A6-10F4788D45AD}"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68BCE403-A60B-4D17-849F-8509342B7698}"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C09A0763-FAF9-4B76-8B36-A74B5E34D23D}"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51AA3B46-C030-44A5-BB5C-832FB693CD35}"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D0E4A799-2D75-49FB-9E4F-9EA1C70EED8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93EB0F5-BFFB-4ACE-A171-7AA7C589B6B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65C1A7EC-7D38-4CBB-AEC7-A7020DAC0D98}"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9856F5F7-7897-4801-8D08-C3D96EC7E170}"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A7029C42-B2ED-4269-B5A7-4E2EFF1D3F86}"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DDEFFDDB-6E7B-4736-8530-FA7060C7196E}"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592AA076-BFC4-4EBE-9EBA-51F90E69C76C}"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F0A49FB2-5BD9-495E-A299-5BAA700B3573}"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EA300DF8-FABF-4951-80F3-C10DC930C3D0}"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99C80397-27D3-46A8-8E9C-47914545FF2E}"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1F307617-9D6A-42C9-B9B0-2B81E852976E}"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494AEE6-B011-4F44-96E1-4943E4ECAE9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16A4C00-91F4-491D-93B4-A7B4E94AC328}"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12A0B9B8-ABD7-428A-B10E-F174D4688B79}"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B78D01C8-203E-4C60-B965-7008440D1E50}"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4D7E6227-5EE1-43E8-B885-73660493F3C8}"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E5D858B3-AD26-4F7A-883C-6B4A09E60CA4}"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47775E0B-2EB4-4A44-8764-E93737EF4AD6}"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5C8A982-C976-4320-9395-DED3704F2DC5}"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DBC6A446-FF4D-4ECB-8546-8ED2888851DC}"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E1B94A50-E22F-43A7-890B-CB7D1D2277AE}"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1E8F4635-384D-4506-9DA4-7D5056347FF4}"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6027EF24-2776-47AA-A064-FF5222512C7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DE44EE37-CC09-41A0-8437-19859199AA80}"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9423684A-D347-4561-B9B2-FCC29118D341}"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37F86CB0-9921-4182-B5A1-8741B9C5835B}"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198D60DB-4757-4321-8AC4-9B56C0C930D5}"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0F28583D-DBB5-4826-86DF-48F5BD27A6C3}"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0C77A6E5-9ABA-4668-870A-A6720DB60BBD}"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5602F462-6DF8-4201-9FB1-96B4FD6D2BCF}"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B9357B15-0CBB-40EF-8989-E686EE198E78}"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9F211CC-5E36-4CF0-B22B-9DEB06BEC11C}"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2679B925-8C97-4F96-89A5-200083F62CC5}"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4EB4A600-BFD9-4C2C-92B3-72C71A557D7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4E4D8A02-D557-41D1-8E5B-BF3B4A78D948}"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CBF70F72-EFB0-414D-B702-D8F5FF172808}"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BEED49D-BA6F-4233-9031-8E1E9B3B4870}"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68128A6-DEAC-450F-AEB8-146AED44AAB3}"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CCCB8B4-E175-4455-BAB3-233345A9B6EE}"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2357A784-4350-4C10-8EC1-19F9E6E0044A}"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B3E51C1-050E-4C04-AA8F-E3C01B8DB31A}"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6A0CB517-D162-497C-B45F-E9D4FB258417}"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9B244C77-384B-4BA4-8271-1A0C992CAE5C}"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4B4AA8F8-A2C2-4873-B282-256FE08CDD9A}"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20DE4A00-8485-46E1-A748-08F2CBA1A3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57B83D4-E308-4E5E-B049-34EA33A5C8B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DCFC2939-61BC-45AC-AC4A-65BE46FFD162}"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D96238AB-EE9C-4EE9-BDFD-9940506BEE3D}"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4DB863CF-2F7C-434A-BEC2-CCC6C8A86785}"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58A870A5-3FC5-4736-B1E8-F05853D452F2}"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26D538A5-9543-4653-8DBA-60DB56EF0702}"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D102BD73-684B-4E9E-A7D8-7749BFA7AF0F}"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2CF16D0-FE67-48F1-9623-99F7C84F5745}"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F4F7CB84-C30E-4E82-A252-B7F31E31E0D4}"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CAB46614-6656-4683-815F-590D52FD1605}"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D3A3E9BE-E397-4050-A678-9020E5EBD724}"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BEB8687C-5878-4253-BC0B-B856D059258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96AD612C-6AA6-4888-92EC-7A0BD0AC6CA6}"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A9AC77C1-3F97-4240-BC66-47ACF38FBDB9}"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2B950FDD-8332-4AEC-9CB4-C16422604A03}"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379737CE-D571-4907-B05C-AB7F435386D5}"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994C26DF-6B7E-49F1-886D-285FDBA738BF}"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7F66B55F-7043-4E47-A35F-1BBD1CB28418}"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4CEA74EB-97E1-4818-8FD6-9D15B6BB103B}"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3C0F7FCA-108B-4F9F-B164-D6B927A695FE}"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7A89623F-D96C-4D00-8844-24E14DB3587F}"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D31256C9-8D43-4233-B9BC-D41BE876FF3D}"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A8B44697-CA3F-4C80-B56F-194F3AFA390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83CDD462-743A-409B-9D5B-BF211EF420CD}"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68065956-BE79-4A75-9B28-36C04ACFFFFE}"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A1044324-0047-45B1-921D-EF837C10EB1B}"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BD497303-6E9A-416D-9EF9-85A32052D56C}"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C35DFCE3-655E-41C6-BCBD-AAA89D842136}"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ED80FA1A-04B7-4950-93DC-C2ADE6E96C14}"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44344243-6411-410A-834B-6F63F035820B}"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F92EF2DF-F304-4F33-8E5F-5EB4509D7CF1}"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74FCF874-9C48-4A43-8253-0A64FE4F956D}"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F61E48E-2A21-48E5-B620-754BCDFA51CF}"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90D0160-9D30-4606-8392-176B89DA87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62F61EF3-78DE-40E6-B39B-D4E01BCBBE9B}"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AA6350D-DEFA-4C2D-A735-00F3FE77FAFE}"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DD5CE75C-4B18-4A00-9186-FB0959430237}"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5CC9AE88-7479-4BFD-9279-0599378DD95D}"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B60A2015-93DC-4DF8-A28C-3C5B4C9972C7}"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B4F62BD3-9163-4CEA-8254-4301AE68E04A}"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9E267A46-7B77-450A-BA0F-8ACA496D8933}"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331D3E2B-B9E4-4468-A998-C964C9282E27}"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0D88DD07-7948-47BD-9D83-1E421496D7B5}"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87D42CA6-5C41-4951-B47E-F7E0B3947DC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3FDF197-79A7-42EA-8DBE-19AC3344303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D3F2701C-F34E-4241-A2F1-8768313F0FE1}"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C65D314D-9D91-45B6-8685-45811D8EB5FD}"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053E924-0C4D-4969-A78A-C3F423A92520}"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F1FE475D-D0B4-4F95-98D5-C390CACE58CE}"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89EE56C5-9BC8-497E-BC69-F23B11A0DD7D}"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6ED5CDB6-38FA-4B65-9129-AB5D33457F98}"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22B60B1D-F0D7-4EE0-94C6-4E1B583CBDDC}"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628899AC-C6A9-4E37-8961-6CEF356F8D25}"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060DB2A4-E92C-42E5-8F6E-5F48A9EB852A}"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C65B64E2-6B6A-44CB-B71E-FAB6F210C456}"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650F4C95-12ED-4895-8B63-172BC7D3B3D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92F5FC4-162B-44D3-B81A-082A7C14B0E0}"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6667EA3F-C763-46CB-8B4D-642C160E2FB0}"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A1CBCAD-9EF2-4877-92DB-6C56E7AA089A}"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5F83B85D-21AB-48B6-B26C-2D3B2D1E45DE}"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84191A1A-1344-4F7F-9498-E6AA4C232EB6}"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18758A5D-2AD5-43F4-A36F-E05494F08EC6}"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78E8743C-F6E1-48D9-9B0A-8E26C64323F6}"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118AD8DC-07E3-4D12-A11B-491BC1E60B3F}"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DF49FD38-0F44-4996-9F2C-A6DE44F02EE7}"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6A895721-1F8C-4429-8656-6F73CE04BFD4}"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FD8C5996-B28E-44CF-AC03-1E38EB5F7D5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C221906C-886F-4216-947C-FBAFBA2180B6}"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84CA5541-D18F-4297-993E-72250F1CFF18}"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DCCAA97C-D2FC-4A06-9A35-79DF2395B748}"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89E1A76C-BE5C-4DF5-8C57-805CA170A5F7}"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256DB5C-64DA-4AEE-A094-282DBA5278A5}"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90E20F83-FE12-45BF-BAFC-8C59FAE3493D}"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F97B1D94-FCCB-4196-9378-009AB4BD98F6}"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2BCA5B51-EE76-4707-80E6-A9010DEEB6DF}"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915625F2-310F-44F4-8B79-76CB166870D2}"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BF5A09CA-FBA1-4F32-8266-975A24C0B891}"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851EFAB6-B9D3-43BD-8C8A-FF70D56387A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8B07FED0-5B37-49BB-9FFA-B21D23C5D4C8}"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C371E68A-668C-4F14-A38F-31678A17D7DB}"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540D8171-0D54-48D7-806E-282D084B415E}"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3BD3AE90-F7B0-45BC-9F44-D43116D87E24}"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B7E70CCA-3F04-48AF-B374-CCCAD281534E}"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3769E457-1140-49E1-90AF-2904F982A483}"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8EB9B03-2205-4D30-AAA0-1C975C5E68C3}"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A5F1300-B45A-4303-8EDC-66E5407770DD}"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F394BDE7-B447-47AC-9090-911A761938E2}"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1B1EC47A-E11A-4C04-9E10-A3BE3D520FE2}"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02156609-7AD3-4099-B28A-DF40978A267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78362B03-115F-41C9-B0EF-85A38AB7191D}"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D45A7A99-EA2D-47DA-95BC-3733D80B0675}"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AB743D29-FCCC-44DF-B7EA-DEF61B6AE290}"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366D07C1-7399-4E69-94A7-711092BFC92C}"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9F672CE9-D499-4631-A33B-49A25BC72A40}"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1EA7FE26-EF74-4964-97F4-33A3EC5B9038}"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F49640E2-6F51-455E-BE2C-C86C585E0421}"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CD19A25A-AC30-45E6-900B-97C220A12487}"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A69429F6-4046-46FD-9C72-B29CD3A2A100}"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6A8D5234-8C0B-4B6E-92D3-2A5DC3FF977C}"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3D78B15-CAE9-4884-AD46-75ED2C64E52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6020AD7-0D29-45E8-8FB6-2120766B1F28}"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7E79A5D4-605C-4C09-8439-5163FC420F6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9ED814C6-48D9-4486-BD2E-0B668B677B79}"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DC37DBA7-9605-4487-A534-538CB1EEA07B}"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35309336-805C-4FFA-ACA2-602A374A28D6}"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7FC21295-D908-4DAE-ADD6-91D362A26060}"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B58E7884-F8DC-4485-BD8E-22A0F9D7BE06}"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7547EC59-E423-4E53-AA0C-E43491AB81A1}"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61763A1D-D135-48A0-8B50-57CF8ED002A7}"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AF5E1CF8-A960-490E-9962-8DACCE27A2F2}"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30233420-E5A1-438B-80BC-B6236E234C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399F1C1-3B2F-4EEC-9368-14A2F763EFA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2D8D9A6F-F382-40C6-A95E-0D9C1D3C149E}"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32AA63B-2467-4D94-BCA9-ABEE5A765C0C}"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1AEF4CD7-6E87-428E-99BE-3C54392CAB23}"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2917C6B2-4606-4142-9293-69B885F216EA}"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27261353-48A7-4AAA-AD90-D319FF5CF70E}"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5823696D-B571-4A07-AB87-E2A029431654}"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F4B90243-3522-4A61-9E10-337802B35ACB}"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BAD39994-98B0-465F-9C2E-61EF401769F8}"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D9EFE4B4-5293-43A0-954B-AB877E0E78F1}"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0A228221-5BFC-4621-A85B-B57B89A5BFAD}"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6A6C424A-BDFF-4BE2-9423-9C981F86861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C8521BA5-8365-4007-AC8F-26D974A23EAF}"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8663D090-9CB1-4148-9DCD-E0B42AAB1A4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B2E5512F-C7DA-4123-BC9D-9A117FE59D8E}"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B20FAF8D-A664-43AF-97AA-0D3397FEA2EC}"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CE172FF-B149-4DEF-826A-826B958CCD0C}"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F772D2A0-D56D-4D60-B2D0-16386B1484B7}"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676FA761-781F-47C4-ADA8-1FD93E5F9798}"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A35CC774-150A-4B15-85CA-B1C2FA74C93E}"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C69C994D-E1CD-4211-957F-6E09DBA99A6A}"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7027962-04DE-4F6D-8375-468501AA2B55}"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EA775096-4C92-4F65-B41C-A12D069A162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75DF6683-337B-4011-9B66-2476A8FBB3A5}"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9CB877A1-5370-4589-8EC8-1C6BF48CB5D4}"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81284308-014C-4DC9-AC00-FB09144C5AA6}"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2E50BEEF-0975-4B62-8F21-9510D95BE9D3}"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025BCC33-8763-4A15-998C-1DDC2A08E267}"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19FFCE6C-6234-46F6-A0DB-20C57B681D24}"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2B4FD5C9-60DE-4913-AD57-A3C60154B7FB}"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3CB5445F-7DFA-4B84-9538-5F357A679AC5}"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BF80682D-CEB2-42B3-8650-BF7A352C988C}"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68BE870B-AA37-4E6E-B370-8F6A39A94E57}"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0EC63F03-5CEC-4F73-B328-0C065A932A7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2AB08599-23BA-456A-A6CD-2B5BBCE49BA0}"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A60CE751-BC8E-447B-A9BD-57D15F523667}"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6DF529BB-44CD-4EA6-8325-FDD265B16F02}"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E5DD9B63-716B-430B-950B-7D46B7BF211E}"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449909A1-88A5-48B5-8FF8-CCC9A06C90DA}"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EF06B4E5-CB8A-47AA-976A-D36570291D2E}"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DF4B889-82BF-4559-84E0-4BA40E400CAD}"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093121EB-54F2-482E-85B7-A1DE66F170C9}"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7A6A22C1-1724-4DE5-97A9-60110CD9E972}"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84CD036D-93E5-4CEE-B360-17B25FAD0D9B}"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9241F162-3E35-4AA5-A3B0-639FFF9F7D6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1205FF87-E62B-403C-BB9C-7AF4301717FB}"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1708CB3D-B18A-4352-9F36-8DBAE1D9E502}"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29222357-0680-4A9F-BACF-D9489953A21E}"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BC265578-60E9-42EE-81FD-B68723DE943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F049FAE3-3158-4460-AF6E-CA129FB4A541}"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F5E7F14A-0186-41AF-8D0C-59BD0890EE03}"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C2AF9FB2-63EB-4F3F-ADEF-4C93ED0184B1}"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1FBD38F7-33B9-4844-A63F-61B6472E4179}"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CB214280-C648-4049-96EA-B8C571818524}"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82E64807-3AD6-4BAA-815F-027CFE88E9D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D34A68A0-75AF-407D-A00A-0B12D28992B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B3208076-DF7D-4E95-96B3-DC7F69235301}"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5C5FC1C2-F4A0-41FF-92CF-70355B45C743}"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270C8415-D27B-4E22-BF8B-4032A935C418}"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E5C18689-23E0-4EE7-BD26-11CEA8FA9DDF}"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894607F9-0FA1-488F-AA68-00C132FF7963}"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F5199074-1AFA-4D10-8411-10605C535B23}"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A4324313-6F68-429F-AA6A-0B29E83B3E88}"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1DC1FCF7-32BC-41C6-8532-C2A08BCB3A65}"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415DE01C-D082-4CDF-9E08-897F76612834}"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3C678501-0144-435A-AACA-C1B4CBF78DE0}"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51E8BE88-277E-4254-8726-5587C0150CC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9540083-6A47-47D0-B785-B9DA18A846B0}"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09FC77D-2619-41C4-85D5-059760AB0D9F}"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799D3BC-C324-45FD-B099-58B382EBD7CB}"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C05BFD26-A54C-440F-9747-B7E30A553B78}"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37646337-F604-437D-A793-039CEC737760}"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617C55F6-BD0C-4A36-A9C5-2F73C9D1420E}"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39DB5BDF-B2F9-4DBB-83EB-26E6CF6243E3}"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252B9E51-2C16-4219-A059-1C30D3E5AB7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19604845-5A02-4B50-A9B1-C1211017CA0A}"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23453B6D-CFF4-4E86-8AC3-C28A2F73507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E5E5EB49-1124-4334-98E9-880540EF99D5}"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52A9914-2B22-453E-9484-23C213D01895}"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B03B4309-D9D4-4DCA-92D5-A80FD85B87D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969B550A-A51C-4BC2-B61B-FC2F867F7DA3}"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B1993665-39FA-4A18-9449-6FA0274E67A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E47AA6B-556B-4090-B166-CF15616A141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6BFD9C91-0A59-41BE-8242-AD83A039201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BEB15BB4-F708-4B63-9D26-5E722799D41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DD313E5E-4DF3-4DBB-BD69-8CC577BD39DB}"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6A71BB53-A2F2-45A6-ACF4-BB876D2528DD}"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3E26D09-267C-42FB-920E-23175A375BA5}"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9914E834-4DC6-4D9E-9FE2-833EB086B00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E43D9E6F-9FEB-4B04-9F96-39B2FAA9ACD1}"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131C3962-C79E-49A9-9134-A1E6A8DE525A}"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CD7F0FD0-685A-4EB8-A47D-4D60B94E95C3}"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1AA3F3B5-FDBB-4BF8-82FF-4692AB8E814C}"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FF1272C8-FB94-463D-A506-63EB9F5251A1}"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F65D4493-B31A-4F54-8ABF-89C555668B5A}"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9DF7BA97-4E4D-4901-8925-78484DAD1F48}"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E0AA2C2-A244-4581-AC9E-61524B70C97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D8AD4BF5-7A47-44D8-8336-7B2D89F03749}"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B01D5974-EB18-4878-B8AF-E94B85FB3BA8}"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9E5042E2-A896-484B-8F4E-6F04355AE1F6}"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9754B5DB-5017-4B73-A471-9948DFFF9A99}"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DB5D8DCB-96AC-4D36-B5BE-21FC9E38895B}"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1FCBDF5F-9BF8-463C-9999-D33CEAAF2655}"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802D3E1E-DE42-4472-ADFE-AF55A1193589}"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48B4E587-6E84-4C46-8C5F-DBD47437CF7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7AFE1D49-54B3-4DD2-A07F-DE6C091A32B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B8F3AAAB-06A5-4D2D-8DFC-42BDDE0B40DB}"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53CF3BB-3563-4F12-8A21-478866EE165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E134714-8ED0-4051-810B-124659AD54E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79F8A406-CB11-4A03-AEE7-E45148EE7B9C}"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2CFB16DD-E46E-4628-9F88-C052F9AF36A9}"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E97732B-7528-4461-A9F7-EA9CB8AEE18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3946DCF1-F8B7-45E8-B6B7-551C229AA10C}"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3006BB9F-8E25-4507-BFF5-89977975B3D7}"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6C14CF1A-4C1A-4AE9-B247-64A8E223357B}"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A2EA4F2-7D4E-4A73-84D1-A3309F26BFE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B800A025-E01E-4D8D-B872-F8FAADF375D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46253975-B7CF-4E6F-983B-953BC33A135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3EAC096B-0A10-4F13-AFF1-B877F847BF7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95E03177-CBBC-46AD-82D0-6EFD9C64D7E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31B9A4D-B99E-4B2E-8B19-7796A2BCF0C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F199399C-F28B-4D19-908B-280CBAF693D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49FF097-C64A-4D13-8B2B-B6BC29CEBF4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5CE89A4-CDED-468D-9F7F-9321F840140C}"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9B7D9B18-23FB-44F8-ADC1-44185DBB2E3C}"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6F60661A-ED21-4BE0-A4D7-1AF70BA9D576}"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2547761B-9031-420D-BE10-80E165CF32F7}"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35D7A5D7-491E-4B1C-B69F-20098060CBCA}"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4E20A5F-5200-4BCA-8574-4660A01778D3}"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0C22C6B7-EE95-45E3-B208-39969FE5A961}"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205B88CB-C1DC-43C8-B99C-B710E26A6454}"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3D9A08E2-C8B1-41E4-8391-34D79C662C04}"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D4BD9826-DF21-4542-A1FF-F2D7928911B7}"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F8EA270-14AE-4D79-B470-5E8A31CA799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FBEAAAE0-0F2A-4B0F-9FA7-47A3DFD58F8D}"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2131CB1B-D120-4E15-853C-7EB0A7CC1DD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8A865CF-1A29-4068-9D7F-1FDB7DDA480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55D0D313-3A95-43DD-83F5-F5448047624E}"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72815D02-F7EF-4146-BFA6-3B18BA59C4ED}"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3A1BDAF4-9FE8-406A-A6A1-0EEB2D97DFC8}"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14EC67B3-6AB9-4B01-955E-FA11BA235405}"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EDA7969E-8244-4806-AFBE-4DA18092318D}"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D84F6ACC-FEB6-46F7-A9C0-056DB6F286F8}"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7ED44CA-1B9E-431F-8956-9422E1D709B2}"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CC652DD3-2F93-42D2-A2FB-4DAE8205A67B}"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82D4BBF7-E222-4752-B5C7-7E1A5FA8FFBF}"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0DF7FFB3-B1F4-41A3-B489-75CC7BBCBA23}"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A5C7F1C3-3274-4AF8-BD51-C8E0B29DB05A}"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4449AD83-FB8B-4CAF-B08A-0A14D626A6FA}"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39EDF83-5E66-4154-9E83-BC42B01BA484}"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44FF6877-BA29-49E2-854C-C3D5EE2E15EE}"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3618D374-2A47-4C9C-A728-848828B08C9E}"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AAE7DA35-D629-4865-B0A3-975D5D2D1ED6}"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F4186CF6-DA53-4578-A648-4F67FDAEFE41}"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3C2B7FBA-C044-4F8E-AE11-92C2380AFAC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134BE25C-47CF-4637-B14F-558489A233A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177B43E8-E869-4481-AEE4-E1F3AC710D03}"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8B7AD59-3BB6-476D-968D-D9F765CE175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B924BED9-8F61-4568-9C5D-9559C7153708}"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05152139-BFC8-4160-8B98-5DF2552E6A8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00D752DC-C48B-496F-BB4E-5048EDF89E9F}"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8F1D9606-4F4A-4FEF-A59D-11F67AE02F6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047E1BA6-C0E7-43F7-9A12-2DFB06AEBEC0}"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DDE7C022-6C1A-48C8-B68D-7810D7C1FEC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F72F562D-41C2-49F3-8AD0-DDB864102B2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33AC1118-8C4B-4A15-A972-8A31F97ADD5E}"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4A9CCA0E-B2D5-4F6F-9119-15A79F93DE02}"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6F9C749-CEAF-40F0-ADAE-8B93CDBD2815}"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5BEAD9F0-5A81-4ADE-8592-126E2ABD0763}"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A8708E2A-1189-4FF6-BECB-AA1894934A40}"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4D2FDB00-284E-44D1-A6A9-3B69FD2BECB7}"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E9E20F3B-8C5E-465C-8143-5AE18D33C44C}"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A225E08F-5750-4545-966D-A33DAF92AC97}"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4B2426EA-E945-4CF6-8E52-1BC521D31297}"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8FA36BD9-4333-449A-BC0F-37DD0E80138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A96273EE-63D8-4489-B188-8DEFDAE329C1}"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B20B1EA4-5A9D-4009-9E58-AF5787B06632}"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B530AD85-18A4-4D08-9383-224745372A2C}"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B036086F-F74C-4C43-91AB-4D8800AE117B}"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BF353DAB-C16F-4EA6-A353-D45AD57C5D4C}"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00AF7D1E-C271-45E5-9F17-B890D47A1E36}"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6678240-AAAB-4ACB-80A2-49DFBA737854}"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D3AE8009-3243-4B02-8E7A-BC6DBEBF1141}"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E07E9549-057F-4378-A38A-CE5FE8B5D2D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2B473FEE-145B-45A1-AD2C-6B7E8D86218B}"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836A9D65-928A-404C-8FEF-5CB9F3A79ED0}"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A4482A4-8F26-49AC-9283-18A807037D24}"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BBE89E5C-8B59-466B-89A4-C867BCE6187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5D28A91-34B4-429A-97FB-50610B2AFB1E}"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93B88219-091B-4E90-A06D-88FA7F166454}"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1144209D-67B6-4C36-9BB3-418480C06BC2}"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215E52FE-4616-4B20-B9B9-CD7C5D677260}"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19D6413E-5812-4423-941C-AE968067ABCE}"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19EFA01-264F-44BB-ADF8-9D9E9FA6F6B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8135C23-D0DF-4A1E-B3B5-0E6E05D419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31ED720-C0F1-4643-8B2C-33ECD6A1911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F22B3D58-431D-4B50-8C32-6C8061F167C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9A4524B4-5949-46ED-85F5-37499FC44E7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43E494DB-3A6C-45B3-8976-54BA19945FF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B896DA6-023B-411B-B0F4-EE7346D4EFA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7687921F-3584-46BE-9B65-51D07A2255D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E455C5F2-2040-4942-AB0D-59B0B12B68F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9F810B95-7317-47C7-82F6-B8119811407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84A8FFFA-0326-47DE-ABAF-5D7B60CA86F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8668D41F-AF91-4820-B043-00D38406A9D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E4D9B69-88D4-4F99-80F9-536B062C8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1185BD3-04C1-487A-BD0E-2077F05DB4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24B7D0-FC88-4B3B-B584-A735A995459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92CFEC2-2465-44E6-A036-4482C05225E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87B5B3D-85C0-4F62-801C-C6CF7E8BC65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C8FEC6D5-EAA8-43F0-A553-E6A08906E4C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E4443A17-8480-41E8-9279-42C6DD7B031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110B4673-12D0-44F3-9CFB-0753D7B0174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9EFD0AE-8EBD-4438-86A2-4E5DE9B73D0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4EE3C2CF-566A-4339-99AC-9F055C714D8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E01A3B3B-39AB-43A8-97D6-114DA210412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467D6050-4C80-4AAB-AE72-FCEE002BC75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7C2EC916-2119-4608-9C67-C1EFC3D58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0A60DBF-50BA-4944-98E4-B8042269681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A7513399-6B79-47F3-BCD9-CE592864488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BD9C11A-1449-475B-814C-240FAAD73F2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E68DEAB-A953-491C-81B8-064B9C1D0E6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91FE7AB-67C9-4897-BC37-0661C75774C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316E09C-16D5-4B95-B89D-578B43FC1C1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BE12ED92-1A3B-4A3F-83D1-B7846C854DE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E6F8D738-2979-4446-BD13-37C0C8CC5F1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D562F65-4428-46BA-984B-AB599376032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ACD2C8D6-A541-427A-9EED-692CCBF3C72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F647DFF1-9D71-4CD6-834B-192F8524CB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AD2D1C5-142B-45D3-8ADF-1786DFA9B4F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107F2557-B1FF-45C1-ADC1-EF6C5578548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C1D3716A-F851-4943-A195-1004DD4D031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B09062D5-6B95-4692-9CDD-A6CF4621D02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5090EE6-675D-496B-A606-F6914B31154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5483A63-5A2E-4E3B-99DF-974B573E7F5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E0B0A40-47C3-40B1-953E-089A5EAAF9E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48D9F5CF-AA8B-4389-BC4C-DE6112ED7BD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8D5F3415-65DE-4863-8FFF-773769A2481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C8FB8A15-6D85-42AE-8BAF-B042B0B737B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97F7F6F-8091-49DE-ABAA-249AFA4E77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7C3241E-FB42-4B78-B920-BEF992C7232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B8FFAB46-9CF9-4081-847E-72461DF4331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5ABEEEC-EE06-4B07-B7B1-1F9E8B8CDE0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89F4A723-E65B-4420-841E-E0F7830BF16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A6B6AF45-BBDB-46D8-8F06-FB0143277D4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9CB8A553-F8E6-44CC-9062-7CC46AA4251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F53E437-420E-4254-9559-55CEF94F2B6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FD2812E3-A0A2-4ADF-B98A-935044779EE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716E127-DCC6-4163-9BE9-41C70FF9A9F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0148D742-094E-4A40-B2F1-77DF7217E4D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0ABC91D8-0ECE-4D3D-B27C-BB42D2A1BF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7E768DE-2A5B-46DF-86A6-743D3851FED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8AC40889-0DE3-4D9E-9685-788600D5176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8F5E3CC-1905-41AC-ABA0-281F3624B15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A7C9A4AC-20F4-4709-9292-816FB532B20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C1C4BE4B-C36C-4E0F-ACFE-056DDDD1AFC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1D1A18B5-C4BF-485F-B447-BFE8D71FE43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B6B8E048-3C6C-4DD5-B57B-33C960ED65C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01E053F1-E62A-4D8A-9BD3-E3E4647DA6D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F8A8C57-F1C8-49D4-952C-4A4D7A30041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BC927D4-69F6-4C61-B2D6-F1F1EC2690C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9C3CB0EC-CB2C-445C-8B8B-31B59EADB2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71E444-0AC4-4AE1-94CF-3040DBF3ECD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4BBDBAB9-CE64-4D3C-8C68-0EE5DB8E0DE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35DC0F65-1C67-4B20-A391-1FA970EFEA3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5124A6D1-49B0-486D-A17D-1F75E21DFB0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E6C03523-58DC-4B49-9A30-A17C40FD28E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17B231D-1458-46E4-901B-49638221714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8268B3A-A2A7-40EA-A685-46053B56755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5486A4D7-D501-41A9-92D8-E6F7F89D118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2F627242-A94B-4CD7-B3E9-68ED95BE59E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128F1D04-7E9A-46DF-883A-F492BA3B08E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563B770-D762-4CAC-A595-3A268EBC94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B94628-8291-4972-A2AF-C80651AE1CF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DCC51AF-4845-4B12-8D1B-C0E811F7184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BD7FBC4-8958-423F-AFF4-2AC436AB07C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B42D5818-7E65-45BD-B9DD-0C47B5511D7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F5F72CF5-5C75-4B70-B8FD-DFE0C8C6F9A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2404BF9E-25DC-45FF-83CA-E7D937CEFA5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A9A94C0-563B-429F-962E-3CBA9B142BC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A21C38AF-BD8B-424E-9595-FD68DD52ADD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1C2AB04F-28F3-476A-B2FA-D8620423A4D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38E9460-B734-405F-8A0C-1A4A3DF7949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DBBE8BD5-170C-4B89-BFCE-A41D6C9812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1280B4-A692-40D1-921D-43D1141F67B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80154540-DEB9-4245-86B2-81C2EE4AA7D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D85A724-D430-4015-97C8-0FA6AC8D639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E18D489-7B8B-4203-86D7-30DD7FF4ED3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5E82F525-E28A-4E65-89B9-DB1B3D5691E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B3AA48C8-48C6-4B49-BA3D-985C9A7D060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3D7C6073-FA2F-4F75-892A-28DFD78AC3F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6C91112-89E1-45A1-A9C7-1EB796E9C86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348BC6A-CBEA-48D3-97A2-5784A158581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47F0ADCE-02B3-4704-BA53-3BD936463C6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A81D554-7381-4B80-B2B1-8968BAF663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C4640FB-AFB7-4E44-8B32-59B15E4CB89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903CD909-8211-4531-862E-20D051A73B7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59B67D38-A0BA-495A-B370-6B9AA7761FF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4B08AAC8-EB60-4F69-A709-C01FEBEB572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BBC27F2-1AF7-45B4-BA4B-B49A3616235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972B32F-7DC1-4567-8BCC-EB30368A5D6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9A56E25-E5FB-45EF-8750-9B69ECF2C2C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D02127B2-5BC1-4ACF-8F19-65019600EFC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D88B8915-C53F-46E7-9F52-D25575419EC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014170C1-46CE-41BD-998E-A2A8446DF62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320E756-F48F-40A7-8C61-B521994991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851DE5-2D0E-433D-9C0A-71AE098B286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FFA6BDE-F6B9-47B9-BE68-0E32EA001B2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C5E80402-6EAA-4E4B-89E5-7F4A1CCB84C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AD04ECCE-1EF7-4DD8-9335-4E8D363D944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1B4E5307-9F29-4979-826A-9F744950C85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7379BF76-B2A4-4447-8253-32F4641A7F4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4DA80840-8C1F-4E07-9DAC-E7B155304F7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86A02D4B-6741-4D3D-891D-6505807A5DB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423CE99-9EF2-4311-B663-C19665BA0DF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CBBB23E-72CF-4D59-852E-74FC4B8232E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EE42AC3F-A1BE-4731-BC54-0CDBE118CC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D16AF37-5FAF-4E73-B66A-1607E96BFA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A316ECF-FC7D-40BC-A7D8-0B56F0DF555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2BD396BF-F4C6-4FC8-AD06-C8BBD5912B3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1648149-3E0B-462F-BBFE-B9FF46A9720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5C53626F-F7F4-4D25-A8F5-351D905BA2C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0C7A40FB-E849-4960-A38C-87EA87E7E8B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67E6806-1E56-4ABC-957C-819ABD958D3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EE22000C-16C5-4720-A0DF-2076EE661DD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C5568D1A-B1A6-458F-AA1A-1AA39AE5613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979ACB9-0488-45DA-8F28-C70BB371F89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F4220F0-714C-4980-BDBD-7ED44458F95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FD72D386-006A-4E8F-B26E-87426B7632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AF308F9-E927-4A72-BDC8-95A7D3BDB36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F61CC775-D925-44DB-8F7F-FDF92BB4762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C093A58B-5170-4A79-B202-E00AC27EE89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770FBA49-57B1-4369-8E64-B89C85649F0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E7CE013-80E9-4FED-A2B2-DCB647C685A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1413346C-DBD1-43F5-A06A-07371D51D520}"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34A60F60-8D01-452A-859E-7809A798E83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32443A33-78FD-4715-8C23-90FEA757C96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B0F67C6F-D711-45E6-89E7-12DB6D692EF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EA52024E-15F7-42D9-9504-90A1688306C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FAEFEFDF-3E5F-41EE-A1BD-DB82EA9B3C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30EFE63-2E4C-48E3-9999-6D38FA15B15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3036600-9523-4723-AE19-BC9C52A52A98}"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A874C29-EA16-426F-97DF-73B183F9381A}"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86E8080D-383A-485A-A459-A1150DD4FF7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24D7DA2B-DBEB-42C9-8C40-5E874311255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427FBB32-3EE6-4BC3-B630-792C91AB62B3}"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1BC2435-9CCC-4379-B3B2-D0A1DFEEF77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64DB319-8DFC-4B81-8868-66BA693BC72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8EF0508-62FC-459C-B1E0-4FB835D2C85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3EBFE20E-D88C-4D82-A706-36A2CB8C5F1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68B9DA14-1A7B-4509-A84A-6C55010684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30EDC91-AAB0-4E5F-B801-51482BF5229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8CDBDDE5-F2F4-4B43-9EB6-44FA166FFF8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FB2656CF-E61D-4552-BD8C-F05EC20B3DD6}"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A05712F4-CEAA-41A1-A16E-453F2507C65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DCFE9E4B-A9CD-4A6C-8DCD-CDF919826CA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5C01CD39-35AF-469E-8372-605EAE08FB9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7148362B-3E2F-4BF2-A7A8-96083A321F9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3E480355-A6C5-4527-9C57-0A25D9A603E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EE5BCD60-C141-4E5F-A099-5A4EC94B0C3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77C18DE1-3F5A-4D34-B841-E67340C5F67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74695342-26E2-426A-BF93-6D8E57B8B5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B794CD4-BCBE-4C8D-BDE8-CBC9A2A4D58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9C68454D-5902-42C8-AAEB-D770A00C704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011BDDF4-3D6E-4CD9-AC7E-5E08FCEEDBF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F7C271E6-A2A1-437F-B242-72313DD08C4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16C894E-3D7D-4067-B6E3-B3870CE41FD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83D4E3A9-3A95-4E92-B1F3-9CBA5DD7BE3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8D5DD328-ACDF-43A8-AF92-9D886D15B6C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32388C27-7650-4961-93BB-D5B6EA7441C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56E1271E-DECF-48D3-A6BA-228E2C359972}"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A0D6F5DE-8EF3-4ED8-8F5A-0A3FC7C2316D}"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0E423B0-F0E7-49FD-A822-E119559A63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E197FAF-B5E3-4DDE-B51E-85EEA5E6FFF9}"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E4D6F17-76FD-4387-8651-03ECFA4FFC8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250DCB45-71B1-448B-A69E-B8186F12DCC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84E10C25-1AEF-467C-A170-E18451E5E7E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0993403F-C817-4560-96EF-D462E5DBF4A6}"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1D66A4FA-73A2-4E04-905C-603688816CE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E2F8004-8C6E-42FA-8A8F-614857061CB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95A61E0-7175-4D72-98A0-00C55097062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A9FEA462-DEF5-4405-836D-3C60847F6C1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821F80E8-1C57-4644-9A70-836D9F8BDAD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20EBF5E1-54C1-415B-9AB7-17063E848A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97A27C6-CB2D-43B8-8A00-496A2B6944B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81157633-19F0-4AF1-98E1-8A95F535C0C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CA55669-BA2A-4078-8654-11617D02CE5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D99717B6-84EC-4556-9D7E-458B3872374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83110082-5834-45F2-8D4B-454B26D2E77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FEF64ED0-70D2-4227-81CF-8F4DEB021D2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BDE81BE1-9EBE-4F52-99A6-61AF86FA6A7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0D9FD27E-2EA7-4EBE-AA33-8F231C10D8E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A7C6030-3D11-4D70-9E97-521ACBFCB097}"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0208FB7B-306E-4218-A7A1-9361EB758F4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026351B-2B34-4E81-AD76-246DF2DD2B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9946BE-44B3-4E21-A237-C2A88955541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1CF19B74-CFCF-42B3-BFAB-0EC93E52CA3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5DE655C9-1203-42F3-B772-DF0D201575D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996851B3-C176-42E0-A6A0-698A76957F9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32A8D2B4-C989-465C-88C5-33496A18F80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43D2B331-CB0B-4A38-A9C9-6054569A5B9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BCD75F5D-2E6E-40F7-AC9C-E9FDFFEE52D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59C07D87-D622-4725-A0B8-7CABAD3848C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FFCB5F19-A035-463E-9E93-658CF56C6DA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871C61B0-2E04-48D5-AAEE-7396F501C57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8D350D8-B104-4ACC-8E0F-69B18E7AFC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7413AAB-4062-4269-A2A8-23710B949DE5}"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218F53E1-BCF6-40F0-BA52-6F40FEA9D1D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7C87A805-224A-49D8-85EB-04FDE36EBA6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2768E2C1-B15B-48C4-8D9A-AED4B738244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6DA2D1BC-6DA1-436C-B669-5251164D41D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EEF150A9-F47A-4603-BB9B-562184035F4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7EBE151C-95B7-4B52-B459-83C149F39C9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D93A4A76-CC07-4613-A910-B1642817A5E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A5871278-B13A-47F3-B3A0-3BC447E5B8F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AD3D82B5-A4DD-4B42-B8D2-ADF84F5E3BA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8E0EF5CF-410A-4C2F-B46C-DD08DA6EC6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E288377-7E49-4F63-87F6-85E00A08E8F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F0BC95B7-BDD6-4034-BA45-72BF00CB289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3335BFE3-C533-47D8-8B2C-D57599A4438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603DA4C-A7D3-46AD-8F4F-8059D1D0BEA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543FEAE3-658B-46DE-A724-5652F6F4012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8247371C-5CA7-4349-9FA4-DE210C48A08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3BA16222-E12E-4873-BCD3-3A56D989D38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170D154D-5B50-4C77-B307-12B721F562E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8296A714-84BE-4D49-B17A-F998AABEA4F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39658BA-7AD5-404E-99F7-DB447EE4514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42A8B74D-7E78-4DB7-AC47-D74339EF0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F430C7E-3557-4227-8302-324E1E078A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5E62217-8781-4B10-B9C4-3F8FC0707E1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E608E05-57CC-470F-8C25-C863B7A52A6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BDEDD40F-54EF-4F1D-B105-B1033097829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BFFE0899-934A-4A21-9250-0F299E5B7F1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A134295-1B7A-4153-AFB3-9592268FAB6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F909A71-E2B1-454A-B6C4-03EB1A0DBB0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154CEBE-5907-44E0-AFA7-FA868C7A31F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E680ECB8-4509-4AB9-A08B-DA38C12CF59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70A0287E-D8C8-4A36-9B05-5A51023FB40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AB8660DD-DDBF-46AA-BBE6-86AB8209C77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A724ACF-FFFC-42A4-A002-859EC7A3B3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B57D35C-B810-4C62-8D96-523BCB40FA9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5CC1F714-814B-4CE5-85AE-4DA96C77376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BE9E28D-2478-4C3F-BB82-C4160DA1C13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26B30DD8-23A1-4B2D-AC99-38264D4C6D0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58DCF768-670D-4B6B-95CD-3C896E16CB9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836A38E1-FEF0-46E7-9BD6-F9050BD8E7EC}"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FFF716DE-40DC-4D8B-8C2B-BAD8A9AD104A}"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BFD2A76-4F69-4D02-AAF3-2DD623CE2BB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2D84D41-5279-46EE-A064-768DBE5E89F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B4232376-8B12-45E3-8813-678C85813D5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4B388A6E-C487-4B84-B99C-83B1276102A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996D41E-88F1-48F8-8676-C069FB3959B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8559CEDD-8269-4BAE-AECC-851C9AC0FEF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2882AC9-1223-4130-B8A8-A0C56B0C35D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5F0E636-357A-4C18-A36F-8BA20D97A8A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717A08DE-26A5-4761-8A43-91D6D2817C2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E6F362A1-CBCD-492C-8B8F-3EE700C0E7E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EA65856B-F44E-48D5-808A-866E707B610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94165913-E2FA-4938-A445-A31AE0E3F53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FDBE0EF6-F1E5-4A49-BF54-83F336DCDBE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EF38952-B790-41BC-958E-4E54B44B584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FF13B4D-8EE9-4CD4-ACEC-04231834FE6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62C1B60-3796-419E-8429-D9F00354178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A8C0D061-22E1-4979-A875-34DC638AED6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6F240962-D746-4419-822E-17EF41A83D7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C0CE0317-8ACB-4B9F-928A-CF61675F551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24DCFAE-9962-458E-A62A-236B63C4D03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80D93F5-2F68-4C40-B5E3-37B8E871203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8A8405E-63F8-4C45-9F2A-18976A85E966}"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F821087-9584-4654-ADA5-04D43F7C77B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E5E87DC-2702-493D-9FE1-7EFE462CF1A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85CF9D5-B8BB-4690-9745-782009679C5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6B249DD-3F56-44E3-8CAD-CE670FEE08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0D9D5FB-890F-4035-BDA3-6ED12233D676}"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A7D7327-F306-4972-9FAE-E15C2E072CF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996A3D2-EAEB-4F70-816F-4450ED16F38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2E62375-0F82-46F3-83CA-E64294E26C24}"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9D4CFA18-DF42-4129-BB29-9ED1346B478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54F90745-D89A-489F-B06F-BE865E36DF3F}"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7934138-ACEA-4BC2-8A25-0FAB69DE8B3E}"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D6699423-762F-42E8-B033-7560964F4EB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6E2DF54C-46C6-4933-9884-7E7E992E568E}"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B5E3D62A-A6D6-4233-8E39-3E7BE1426D0F}"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6A8F2C78-0520-45C9-A80F-46B73A1D93C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B2207D6-39B2-4BB1-84A0-80F99D556A53}"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8508F23C-1E47-4198-8F9A-638791DBEF0C}"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A29739C-A150-4C83-8824-DE613BC30238}"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309CFE3F-DDC4-4820-BC89-602E0C080460}"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92872C0-32C7-469D-B24F-97EA68A6E555}"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8A5FFF0A-6F16-4F28-A1B8-6970B6F0DD1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7AEA7DA9-45AD-463B-85A8-0E798692046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9994E57A-9327-4242-8E22-FC52B94EC70D}"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4265ACC6-B79A-4163-BC94-E5B6128CE371}"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3CBC1371-0C52-47F7-B391-D8F12A7A6238}"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B1690539-1B46-46B6-AE53-7FDEAD3013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09FBD85-3952-4C82-94F0-2F39A1A98001}"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B79F5997-449E-4A94-A2B3-AA032176F314}"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808D6266-E95C-4294-8D0F-617415E9D505}"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00F36C35-94D4-4DA6-A7BD-99490781504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A5F5E40C-1350-4DD7-B6CD-2F3F931EBF27}"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20195AF0-A04F-4346-8F97-5E5F5839577E}"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149D0D0E-4D95-44D7-99BC-4373696DFB24}"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8F12E9BD-4A31-42A0-AEAD-EACD1C7D7C0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EFEE8833-8318-425D-B4F6-A511D1839E8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8B95639D-4013-48B2-A291-AFD3D9442B00}"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68EC6738-7550-4DAA-9160-E8AF1A5DAA3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6E62CB3-498D-4272-81BF-575E9A38E4BA}"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0AB54DA-FB12-43FB-9FC5-6A2D175F3E8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98A1455-92FA-4626-B4F9-2D3B033124F3}"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701779DE-00E2-4EEE-962F-820CD746A9CA}"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55254B23-C80B-4BA3-A07F-AC142EB0964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F7023547-1914-4904-9E39-ACDF08BB8B41}"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A8A4D99F-5834-4791-8364-A7A36B885898}"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6D473800-C390-4E07-9E04-39CF2D70ACC3}"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54DA8D25-84F7-4234-8D72-F926F395EE3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D695EC14-CF5F-448F-81D4-1CC80C2260E9}"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8F20E4DB-9A4C-4456-8835-ECBAEF95D3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1FB4C8F-0159-46FE-8E5E-14CACA57DEFA}"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3E240B7E-1EA7-4D09-BD45-04B3DFC6BCCA}"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F012365F-8EFE-46A4-A364-CD89416F9D6D}"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BE95746A-83EB-4B14-9B4D-5314B64B72CF}"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FC6781D6-46D3-4207-A85F-5BA56F5E433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455D2832-64C4-4EE4-A2FD-E6FB518C8618}"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C325479B-05CE-45B5-9382-73946D8245FC}"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74DAC382-7A3E-4D22-A1DC-23A6C2C5F381}"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E5E3352-A3CA-4DD2-9EF5-217E94007D7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36688E0F-BDEF-4D0C-A6FE-72DE1E0B8CA1}"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1C66A6C0-269B-4FFE-8E27-0B1E79B63B5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B8D4D1-9134-4DA2-B5EE-7F2F0F2EF148}"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46BCA028-027C-4684-8363-D0434FBD18F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86ABEC7C-D1EC-4C75-A79E-3FCD7B1186EF}"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4A72D142-05DB-4474-9671-A2CCF68E376E}"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2D790E4-2504-4AE6-A6E6-FD13CE8F5D90}"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ABB9525F-933F-45D1-8D5D-E63830372454}"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23DA8605-422B-41A8-AE44-B81D9E948EC2}"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D467AC52-99BB-44D8-8B9A-5FE2E1CDAEAB}"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ABDCC4CD-C663-4180-9D88-4CF2F55997E1}"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46CACB0A-A9D4-4636-AC43-38048F71D08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89966ABB-C9D5-4BC9-B3FB-7D66452B4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FEBB405-F787-43DA-8BC0-7A83821D84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E999D38-9B09-4DF6-80C1-A09847CC1E6C}"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30559F54-69CC-4488-8E6D-DF53247233A2}"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4264E203-5322-4487-8574-C37852DFB537}"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CD231FA3-335F-4AB4-B36B-B3C239FD30BD}"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27A78D42-3064-473A-9DAE-436E905F57F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BB576DAB-5FF5-4644-B0C2-BC918BF349E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3DDB569-431C-46E4-A9B1-B444DAFBDE2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74FDD445-0FA2-4772-9B00-D6BC86CF575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01C610F7-7285-4A0D-9993-C64A1CCE88C6}"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A586D6DB-0A43-4FE5-9095-8B70687868F3}"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E505094C-CAB5-4947-AC58-9144DD81A78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AC2890F-AA78-4848-B2DA-380F187891A8}"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85D6C0E1-E43A-4B50-8048-6BF24612DCB3}"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01F13EB-E63C-4638-B4CB-22D3439062F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261212C-B3C7-4ED3-AD34-5D6175CE533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702F7042-8EDE-434F-AB64-31DD1408A5E2}"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8E917D7A-C59E-4B62-AAE2-5525A3FF6C1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C6528749-026B-429A-9B2D-F6A4FD41C96A}"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8F0C89B8-13D8-4101-A69A-702D46795912}"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5D05A955-1C91-4E96-8E68-20F07A3DAE50}"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CB385627-223A-4265-B4A6-9828022A38DE}"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DDC18578-C916-44B8-941A-5F67FA3355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06D7910-5207-4D78-8C4B-2D603291DE7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04DE0EAF-D575-4646-ABB1-ADBC456DEFE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BAE8399F-5220-49B4-A2D1-172C78B01750}"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FC4F9174-411A-44EF-ABA9-F00460944808}"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20CB2A24-CF54-4444-94C6-69DA73FD0775}"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7038CCBF-6F13-4D8B-8BA1-B63591E6D548}"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6244A515-88B0-4B94-8150-0B72135986E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625818B3-4249-4CA4-B9BA-7A85B7A6C5E5}"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83F3BC51-3F75-4C74-9924-6F69B74581E9}"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02691383-FAB3-46B4-89F1-979329979124}"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1A25F09D-12EA-4D94-AF82-05465DF993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D297178-A957-46DF-AA15-FE7ABD1FA7A0}"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F0BD2E56-43CC-4C75-95AE-59E0247C59DF}"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5B37C8E0-496D-46DE-98DD-A21AA007B46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7E910229-B8A9-4CB5-B723-EC3378637DA3}"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D6BCD205-9CF3-4CE3-A61A-CFE9613A668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F5C6F444-482B-469D-9B45-29E6F1AC8F89}"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3295EE8-9C54-440B-8843-7C11115D8238}"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ED99E04-37F3-4095-9D91-B7E578807C94}"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85808BE4-5007-472C-AAB7-F6DAA04C5853}"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B56D9A16-E393-4809-A14A-8C6A16F4FCE9}"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9946AE49-49E8-4B05-8F6B-AFB7668F45C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873BF13-44DD-4055-A6A2-86E5F329FBBA}"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3733617E-D734-4E20-AE3C-AB482A840DDC}"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3ABF21E0-3085-4904-BEB9-2D333CFF15F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F537ABB-855D-46B9-8988-3A9850F1637E}"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7A373A3-B3B6-4A72-940F-1769534F3287}"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45C27542-D7D1-44DD-B901-44BDDF4FCF76}"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A2749397-618F-41B9-83D3-D116A2901F14}"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F6E14915-CBB4-4A22-9414-CF024DE1953B}"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35E3ADE-2832-4447-8541-6A74F34911F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1A76BDA-4C71-43CB-BFD7-30236F9EFD21}"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64ADEBFA-D9E0-4F62-85AD-41CBAFE7F8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350BFFA-0667-472D-93FF-5F5E582C9DEB}"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5DF37EF-4982-43E1-B6A7-B9A37E7EA3E6}"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70713009-8265-49A4-A16B-5195287D3EC4}"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BABFD859-E89C-4E00-A32A-09106D13C064}"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9EEF3B56-1FE8-4FC5-8EB9-543F29161B0D}"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DB878D46-4276-4750-B4E8-7B4A0433632D}"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5DA4E240-C595-40A5-B554-A0025D5A1F13}"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65E83A6F-B188-4C8F-B93B-D84281E59670}"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3FD81F2B-1311-4498-BCA0-DA223CB946D2}"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98A2959E-6B6B-4C3C-9897-21620371F217}"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CF2866C-B8C1-48EC-9EF2-73F4774AA7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9A91848-0DCF-4C0E-BED3-D7D38B69C190}"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CB243E7F-D7B5-4BA3-B63E-F82BDDAC5AD7}"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A5723C1A-77CD-4521-9EE2-81CC265CA5A7}"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A8806E65-2770-47E4-A551-39F0FB4A94E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325A08F8-9242-428C-A1DC-F0DE48841789}"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C9033FFB-6D93-4A85-B22D-42339486AFE4}"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ECA8910A-5E18-4067-A060-7EDDACA2CCF5}"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16AD3E9C-C49B-4DFA-A6DE-651F443912A6}"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D673A9E6-78F5-4687-A837-ACAD4903D01E}"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E4ED36F8-8267-4495-97F2-7BD5FF47CC26}"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5D46A268-37F7-4ED3-A045-83552C6353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D4790F1-2780-409D-A319-736063466336}"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FA1FF513-23DD-457C-87A1-BFDAE125CE9A}"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AF9263C0-58AC-4129-AC29-F7340EF180F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6B1746DD-E62E-4D32-A6FE-681E3F41D6B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83DAD07E-0936-4E04-A6AB-BCE455CFABE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1858ABE8-768D-4FE4-89EF-69E65092602F}"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69710D55-87CB-42F7-BF82-ADFF9CFC89ED}"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B14C2FD0-2559-4868-B545-ECFC7321E9C6}"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050F1DA4-87C4-4CEB-BD8D-11B2EA012807}"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99918390-9E29-40E5-8B7C-C0CE86377AE4}"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1F4EB60-292F-4A3B-92EC-825153CDAA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A67EE15-D54B-4273-AA45-6F420B795AD4}"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EE281A01-E2AF-4A89-98CE-4CA330B3EEFB}"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C992E26A-1508-452F-A3F7-2B0327D668D8}"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2E13F0F1-BB92-4757-990E-D888B5ADC931}"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CD6E20F5-F397-4AD5-8B31-E184A85F0A37}"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CFF2DFF2-5B45-4B5C-9F23-F3444FEA0D75}"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996A848-ABC3-4689-8C8D-506AF3C60FF7}"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3CB9D452-D926-4911-9E20-AFADB5B0F54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C0B550BB-BA6B-4E55-BF88-5362C0A62C62}"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36DB2A18-3885-4B9A-9BD1-0C40E9613CF8}"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F3C842D6-AD76-4F36-A3B3-4546A257BE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688DB95-E4C3-42A1-9599-C354219C9467}"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F954DFCC-4718-4E67-A961-7375761A84F5}"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A316BE31-B14B-41F8-8296-FAC35BF4EC9D}"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46B32016-15CB-4394-AE34-AE63F8A37F37}"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87CE2971-EC87-4228-803A-A13D9409435B}"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A2C39231-293E-4AC4-805D-E82E3D1150D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413B61BF-E01B-45AC-AC5D-AC12978BFAC2}"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2DD55CA7-8889-4B48-B1C3-34C0E2CDED16}"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00A70E9-B829-4D48-9A32-2A8C3102ABA7}"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7422D71C-94FB-4B9A-8CBE-9C99F88A70D1}"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6061697C-0848-43F1-84B1-CC2E0C9290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AE87E3B-D16C-4DE0-A2F7-4F89CD8466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2006ED5-3771-4ABF-AE82-BE02FCE70318}"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BC098982-3862-4F55-A841-7A4F2A258533}"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E1635948-18BA-4053-8C17-12C8A10F4AD2}"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2CEE043C-8110-471B-BE36-4DAC1253D435}"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17012EFA-9D8B-4614-B36C-27246949BFD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B3F25367-DBFD-4F8F-A9EE-E91DDAE51B83}"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FEE46910-F6BB-4390-9ADF-0B768C56CDB2}"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4D392EB5-993A-42B0-8C6A-0D4A48EF9F89}"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46A0931D-F72C-4BE0-BBB1-AC967C2088BE}"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721C96B2-92B0-4862-8A3E-C5B5C9279BEA}"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14487B72-958C-44DB-A89A-318B981A7C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3EC6FC-2F9E-47A7-B1CB-D4C38BDE0CC6}"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F3ECA28E-80FD-43F5-8F2A-F9E8F590D051}"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7B1A9650-49EA-4BFE-A4FD-745B23647BA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C2752814-55BD-490C-BB70-B8FC3E1DEC57}"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E27DE0BC-703E-4CB6-979C-C64D8652D959}"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85EBA44B-F625-441D-87F0-AFF2BBD76CCD}"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2F4B2714-A16B-4222-B5E5-42CF56692B8F}"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6CC2CCD8-6A96-4112-B0ED-F614F8378115}"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5BA71935-8CBB-432A-9CE9-61A3AF4E313C}"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A8DAC3D1-D741-4D35-92AE-1A3723185B86}"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763284DD-2480-4461-A095-8DB5C6DF63E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944FA3C-B17B-4FE9-83C5-68DA3B6B270E}"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C1D4F8D-4727-493D-ABE3-F103393CBEC5}"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1E3422BE-9DD8-4EE8-94F0-5DB50F4A90D3}"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C508153F-B35D-4638-8420-A372E1E4ACEC}"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C9AFC2E3-4091-47BA-98F8-A0E0AD78174A}"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87CFC4D4-9D79-4D09-8A6E-52502D3918D1}"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A13836F-50A8-4DA3-9682-F41CC744D006}"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2F2BAE9-177F-4DB2-8F02-370DF0189850}"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C489063-7866-4450-AC23-152BF1B6625F}"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F4690AA4-D258-42F5-B3F7-E6BB98D9D3A5}"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58015520-D664-4404-91B7-2C8949D6B49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BC8B2E0-E99F-4950-8FCD-49CF46386495}"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B80A0072-474D-4647-AA9C-E6259AC43A6D}"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AA74160-1020-4D2C-B8B0-7C281611FAE6}"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4B9EF59A-7487-4149-BAAE-57A228F27C86}"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C58AB1A-E9B3-449F-A293-88D2618B3F9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EF6F8F6-0D76-4C1A-83EB-3257DA6005FE}"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25CE068E-13C1-4B89-BF62-25366D6F1EB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DC2CC289-B5B3-4A90-9C09-C1F1EBD45D70}"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C2DBB88B-08BB-493D-8F60-2D5A05A219E7}"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BAF21C00-454A-4DE4-ACBB-5ACD02AF6C70}"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530E0B02-D35E-4735-BF34-4C14FC51108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3454289-61A9-42D9-BAA1-D6AC49FC13AC}"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2AA7E897-5641-4976-8BD6-69CBFC4E5A60}"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FBB8C101-EAB6-498F-A7F5-098167716F61}"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B6BD2041-AFBE-4A3F-AF5A-A1835D5D310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6440102-01A6-43E6-BE2F-55CF0C459272}"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C4212D9-7D9D-4F22-9C6D-29FAB1889B82}"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A75112E-C913-4DF4-9F82-0F382D7C6612}"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27BDF252-8C9F-45B4-9A54-AD29B16F749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5FA00DAB-594F-41D0-9730-A2FD321F907D}"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87AE4A4F-DF9B-4D0C-B464-B98508718AC7}"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965C96E1-11A2-43EF-B5AC-D70E881AD36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6A1384C-FFFC-4BB0-8D16-727D35F8E16C}"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E261143-E1E7-41B1-B069-93AA6F573E2A}"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42CE4B4-5F8F-479A-B5B5-77AD6864C0D1}"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E93E8648-A1C2-440E-BD8F-6CE5E9FE5FCE}"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119B2CF4-2DED-4E96-B54D-75465C83E8DC}"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445E8C6B-6306-412F-91F6-A37F301EEAC4}"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D955E2D-634F-416E-97C0-9E0C6ADE64D8}"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3E29634-A78F-43A6-8303-F8C4C1A81CAF}"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539B6A5F-ACD5-4CA9-B9E5-8E84147E5651}"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24EE5F66-FE08-4C61-B89C-FDC2917724A5}"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F48A7D2E-3DE1-4B0F-94D6-96F27E4B75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704DA79-1F87-4C15-B33C-3C138C215BD3}"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E17FF9E2-D278-4702-A474-33B0F7713C5F}"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2D37C116-4A38-4E2B-901F-17D73E820E3B}"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30F1A5F6-19F8-45BF-A64A-5F37123115CF}"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74C558FE-7A33-4AE2-B5B3-41D56CF5CDDD}"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C0EB69EB-7B25-4B5E-8136-4284A1EEED3A}"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65DFB0DD-A2FD-413A-A796-C896E46002F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585B62B0-88B1-499A-926A-12AB2AE0D6CC}"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B7916373-1B7C-4BEB-A40F-5539944B8FC9}"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E7D4AFED-512B-4B40-853C-44E933C9E357}"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C72D2F6A-5898-44F5-A1CA-5E37602BE99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26EC718-E0B6-4107-968F-BCD8FD0E3E7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51044549-A5FF-4C3B-B58D-9A036A4F82A4}"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D36A6E3B-2197-4BB0-89A7-314D0C9F535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36FFA188-FE34-434F-9041-25D717A6004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0A3687D8-C633-47B5-AA41-C526671B433A}"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9A28FF0-FCEE-4570-B2AF-6728EF64A462}"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F67C275B-A866-490F-8D81-2FD2993CB76B}"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BF827B6-C556-49AC-AB80-DDB401FE0777}"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96B66E10-86A9-4553-8B6A-1DBC3ED4221F}"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67CDD2B1-A2D7-4538-A3AD-02F29E35F053}"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1CC5C61-12D5-45B7-AE42-6D680251696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69669B7-B015-49BF-A9FF-09DCBC30078F}"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931B4F09-358D-495C-BB35-368B366CA324}"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E0BD276-07CC-42A3-826C-A4DA7060EB77}"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075FB7FC-E2A4-4F87-B7C3-B664C2210E30}"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EC571BC8-8957-46D0-9FAB-98548EBDF23E}"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14A3C404-0BB6-491D-870A-9D43AB7099C0}"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47834E7D-9DE7-44A0-95B0-56AB9211B391}"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BBC5D5E1-7884-4B5B-B793-ADCD20A3E6CB}"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5B97B694-D6D1-464C-899C-8195D8A9AE1D}"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22D5D39-AF91-4419-8C9A-9D4ECDDC4314}"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FF405571-5C59-4D41-8446-3B03742218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2DDD8FC-FDA8-46E9-976C-9D0ECC571360}"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1824200E-156A-465E-8C58-00EEF75F62A3}"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AA1D120-BE63-46C5-AEB0-4872D4B3DCFB}"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A0211E37-A32A-4E51-A15D-9F4759D6AF39}"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3DEAFE7-0D62-4BFA-B9E7-82B769B0F952}"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8645869-63DF-43EA-A2E0-FBC3DAD2C3A0}"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2055C105-0EA5-4A4D-A749-2F3B1A152820}"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2E684A84-72DA-491B-810B-CC1CC74AB2CD}"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E945FCBF-B598-48F3-848D-353FCFE31800}"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5388188E-8E0D-4196-8F0F-20AB189DD0F7}"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0114AE9A-CB76-45FF-BF23-973E44B20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762A5B9-9F1F-4B92-A880-8439E7AF0E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7EEC6AB-4AE4-4C50-B14B-3E1EDE8E5437}"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AA2B5C7D-A0D3-413A-986F-818114CC3845}"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EC1D80A7-46BF-42D0-9034-586B0DF23659}"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680EFB69-1522-42D3-902A-1EB8130BBEF3}"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D0047459-DCC6-4BEC-B531-52769F63BA88}"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DF2468AF-0D41-43C9-9D86-120ACB605C3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1CD01919-9E9D-4CED-817F-17D1100E8B3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D956E653-5204-47B5-9CD0-1C36D8B74C7B}"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7580304F-7513-4DD6-B1C0-1C426A4B8138}"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BB3F75D2-8637-4063-9196-752FA8284B23}"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712813BC-C7E9-489E-ADD8-DB8D921751C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CA6B2DC-0F63-4D01-BC34-A4D4F2E637C3}"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D7A4A9E6-C697-4686-84B1-E9D27A2CC133}"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BA3A5906-DCE1-4980-8772-F29C667A983A}"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2610D487-2F2D-417B-98F8-7E45ED5855E4}"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8105EED8-6F44-4864-A27F-53EEBCB15BEB}"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E1B5C980-6B0B-4561-BD88-540808BA15D9}"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B697FF2-1329-434E-93B5-0628416C1ECE}"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8861CEF-9E46-401A-AB62-7C9AE23E871C}"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0D14F98F-680A-421C-A7C1-A86946BE0F2F}"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4CD17F68-BDEC-4283-8DCD-C89CA32EBD7B}"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A430D78D-9D03-4B7A-9C0B-3627934A689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BB37F27-2106-4F42-B03C-1A94FA28B6B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96E02CAA-B154-4C22-A909-060267D3E969}"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9EB44CB9-EF38-48B5-A8B7-53AA8A65F90C}"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57961CBE-CC70-474B-8408-0F4990458C0F}"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5833ED79-6B14-4FC0-8697-8468DB3263F9}"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DA892827-52FC-4A83-8F1A-F253173C4D6C}"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331CBBAE-A052-4BB7-9D37-A9D5D691F19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B0A64D97-5AD9-4CFB-9ADE-019E73EBC830}"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3860E3D-D073-4F82-B9E4-99BBBD3AEBDE}"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69B3A53A-E6C6-4872-9698-AD4A772C3215}"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ABCB43C7-743C-4F1D-BE45-F06F1EE9610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9CD50CD-C0C9-4807-8690-A367266FAAB8}"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B8960F66-D09B-4E06-A1D5-46069CE1775B}"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608D07D5-35B7-4D3A-877A-CF1FD5986AA9}"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47FD3228-8D65-4AD6-862C-30EAED54449D}"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FD2F97FE-C40C-40A2-A4F8-20E616D6313F}"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BCD69E8D-2D1A-46B2-98CD-D9D3B7B014C7}"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DC00495-ECA1-497B-8427-8D0586518A2E}"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BFB662F9-4F55-49F3-928A-173157B94913}"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D0B1DE49-FDBB-4112-9F21-1242BD3CA73B}"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66B3252A-2FE2-45C0-B004-E681469DC80B}"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06B3401E-6C96-49A7-B3F6-3E0C07ED5FB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98F1805-8661-4BBB-9704-3DD0DB9BE3CA}"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11FDBDB5-DE34-43D9-965B-6B77293C6536}"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3C4F96CD-7994-4051-B3B2-3D868E1177D5}"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15A979BA-B193-4BCD-9124-5238BD95FBD6}"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4073F1B4-B55E-4347-8AF2-9AA511D847C9}"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D785EC67-238C-443C-92B2-84CCD0AE39A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B77866B8-CDC8-41A6-90C1-22D14C3B32E0}"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7FB22A25-AAC0-4785-8148-6E3F9A40EBFC}"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ABECC534-4EBA-4286-8177-B417E72A0AA8}"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CECE9F9-FCC4-4A35-93FA-9E6FFC8E7088}"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3832EE25-1C2B-4F29-B944-D2167A3A657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7699773-3C3B-4E47-8838-8BDC22E44111}"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8868E6C5-31E4-42EE-8E19-B9C884AD9533}"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469D749F-11DF-4FD8-B227-9F3045759E20}"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44B5539-8013-4CDE-BC2A-31030354C12C}"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88B3C796-4F85-4934-9679-FB9A23980465}"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5D4CCF99-72C0-4FA7-965B-9D430DB3237C}"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5AAE694B-F079-4556-A40E-018EB2664180}"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7A928813-D628-4EB9-A1AB-DCC7E2E76E75}"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27E803A2-729A-4E65-AB87-75772FD459C0}"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09F7A25D-3DAD-47B3-A155-98340D77E9B5}"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B653A846-31D2-4D3E-A57E-3EA59255E28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DA5DB33-B5DF-418A-8269-4BC50E271203}"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B5E5B7D0-D643-472A-8788-755A5E5512EE}"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8AABD706-2337-4789-8555-2F22159CB450}"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E26FC501-C937-4F16-A80E-6589AEC6F970}"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3E35CD05-38F6-4E0F-B0DF-E117D551351B}"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6AC9374-F478-4FD1-80E0-4970A807F6C9}"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EE81E54-D96A-415F-85BD-FEB3A4F89DD6}"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9CB62AF-B655-4C78-A911-A5008AF20AF2}"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0A96B6CF-DD04-4101-80C2-FAF7A67964B3}"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B85D63DD-E092-446E-AD7F-EFECDF3BA4B8}"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4E38B254-7BB8-414F-AA49-9D6BC2539CF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AF951DB-8A06-47BC-86D1-4AF96C0559ED}"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E990DC31-BB0F-465B-97B2-0893DE99148E}"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47BBD73F-DF1E-474D-9C3F-B5337C15919E}"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75956BE7-2A19-4E89-A59F-0AD58997B835}"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0CED2FE0-AEB7-426D-A5B0-E559BB2BF19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E981C1FF-782E-4222-89EC-734D66F3C407}"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A795A000-9D8A-4C09-91A2-FECA40628474}"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90C583D8-B20D-4009-BC94-5C007D5C04E4}"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A96ADEC2-777F-4E91-9F26-47578BA8349F}"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267B941-0B6F-421F-B3FD-AD373BFE15E8}"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6F45EA45-CAE1-4A26-A19A-A86B7A6A274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E8D510B-BC35-4F85-AFD1-4188ED385EF9}"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CD2F97D2-C427-4CE1-BE00-B087A0B3CCDC}"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159DC8CF-E315-4CD5-8963-3D2789A6CF7A}"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FB561187-22B0-4BD1-8341-61BCF2AC787F}"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2F8B9002-0FD8-4615-BB08-6AEE1632CEA2}"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70A825D-E550-4A83-B69A-FCF9A6354B83}"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B6374921-368A-4B30-B6E1-AD8F4D7297D0}"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EE9C4FC9-7E35-4DCE-9C26-66FFEF900E1B}"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84356EA-79DB-4722-B7FD-B0456C7A7C73}"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BE576575-33C6-4CE5-A606-80E6EE96E251}"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693B4A8-34CA-4895-9BCF-626F796E94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C14F4DE-8C2C-4B80-8833-236ACACD784A}"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98EF3234-184F-4F97-8CB2-9C804EC847DC}"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0071BC54-5830-4538-9239-A602D25E6132}"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42F13C46-223B-403D-8063-56D6DD4D306A}"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9B8274CF-5A1F-4526-871A-909AC977E9DD}"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1FF68B35-1C73-4837-9D13-D295885721FC}"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29546640-06E4-4A26-ACF6-7CF2EF6CBC7C}"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45326065-B135-4F41-BB6B-B7E2B134631D}"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BDE6FB2A-F614-4455-9688-68A2DE0E0529}"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CFD0476F-590D-491E-AAF3-A10C1C566602}"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974427B0-FC4A-44B4-AAFE-462CAC1E8E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D09A119-97C0-4B46-B47B-D6EE6E4B529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887FB43-C1EC-4545-ACA2-7149E857F988}"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9762DAD2-A9C6-4803-AFA2-39A59AFD25FD}"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B2A393B9-A417-4A5B-B071-DF0D573FEEE4}"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8D8EA5EE-5497-4D42-BCFF-3F5BA9CA344E}"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9996827F-FFB6-4C69-8350-F69AF3E97F97}"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7B42FC72-3BE9-43D3-9A88-54B2C64A36C9}"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4A7505F5-F7EB-4C63-865F-B1B954B2662A}"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43C5C6A-F404-4623-AD31-5F8C96E50515}"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019C7521-7B48-455A-9ABA-ABB0D3C85D16}"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3BC2698D-E6F4-4AF6-B743-FAC793881BE0}"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B0E36FEB-7131-4B45-B76B-D669B53ECF4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E671702-87EE-4607-BF77-124DFAB94C89}"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6DCFCAFC-6E2E-4F69-8E57-EA7E62C41C45}"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618DBFB9-FFE1-4978-A8E8-686924ABAE7A}"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12B71318-815F-47A4-AA2E-E8AD64CAA9E1}"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7AB98B6-0826-42CF-852A-AE2361E561DB}"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3388B13F-E9AD-43A8-ADC0-5BC576C1BA3B}"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FB60FC8A-D897-4F73-BFB2-1AFB52FC9D60}"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E0F718B5-4D15-4793-9E25-C08FB24250F4}"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9F19EB9D-264F-4529-AC75-2D5E05E5EE33}"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C1D2A96D-A0E1-452D-B311-A84B4454360C}"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CD6E0674-75BA-467E-98DB-B516020698E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6803015-9672-499C-B436-FDF8117C46DE}"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E4817B75-CF59-4A6F-B4FF-BF6583285F47}"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6CC7DBAB-22B9-4F90-9716-BE23470D7CB3}"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76945623-596C-49A4-BF47-62E76A7A3184}"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903674D1-2422-4FAE-92E9-71F03A6E1E14}"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B91709BE-D549-4A97-8707-DDDD9B7E8139}"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A21217E-8BE8-4B71-860B-AC789C585E63}"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FF0A1E18-0F88-4DAB-A0BE-EAE1BA3A3FB5}"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81771D4F-D9AB-490A-BF1B-950A86E128BE}"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817A8626-2E09-40F9-93FF-09B69FE24E82}"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D92680D7-A4C4-4FA8-80D7-70B202C50E2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FF84D07-A490-4D5F-8241-CB7F4CEEAB99}"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F8E18C8B-251D-4000-89BA-B7DF69DD6FA5}"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2D0DB3F6-D72C-455A-B1C1-6DDA1174D06D}"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F6E12316-20DA-410F-ACBA-52197B0EFB53}"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8FDF138D-D32A-44C1-A3B9-876A2631F37B}"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02E8A9B6-09C0-4D51-83AF-16E8C04F2409}"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B9EC0AB4-6159-4A4F-9808-4B4B7FF8D296}"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A2B8F3B-7F4F-434D-AD98-2401A3B4E480}"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8E2B7821-E53D-4EC7-9440-7E9D75391E93}"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DE017BF2-31E2-442E-B00D-7204A56D6523}"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301FFA6B-2B62-444A-95A4-EADDBBF625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66F48B07-60F3-46C7-A961-038E16C2971C}"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F7EA1BDB-1A3E-4E06-B7F9-F6EE478CE346}"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41810BEA-8648-4112-A916-43AAF622A74F}"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4EC6481A-2A69-450F-8B0B-01AA9317F4AF}"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2E1A76A1-47FB-43A5-BF95-6DA5A0370A99}"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AB1F9E6-26F2-4BB3-8B13-0D18CA14F87D}"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AE3D50E4-E55D-4BE5-9897-5592624CA054}"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09D0B431-EB50-41BB-9E4C-A7429C2E5C31}"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67C2DFE9-7168-4CB8-9574-028C72F915D8}"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C38E998-4C0E-4689-910B-BF3BB674027E}"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20A8155-7436-4D7F-9568-0D47A76FE2C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2A1831B-7A51-4219-AEFF-2B8B92C61532}"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5CC7074-8420-4CD2-884D-47D8D4BA7790}"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A46F35AE-ADD1-45AE-BAE8-365CF402CEA1}"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0FDD8793-7147-49AB-A39C-A3F26811016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5E460693-79CB-4EF8-9186-84BF995C34E1}"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B2893D33-5C91-4C1A-BA24-B4BA6D898367}"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F3FDAB66-702C-4C6A-898D-6B344F4ED66A}"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40545754-90A1-4C3E-8635-F7304DA0E4B8}"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28CB18CF-FB5A-498B-8A15-598418A235B4}"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56781FF5-E74D-4E9F-A6C9-2481C632BFDA}"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D090A1B-AC68-46EF-A725-F221E98026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7AA5402-C84A-4F86-A894-34F3DBE577DE}"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09CCCC23-3107-40EA-BDEB-B0823E750A1A}"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D2C97141-7175-498C-A364-D655580C2B0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F7879AE2-1098-4688-AE41-3859B8F70BE8}"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1F303EB3-3E4D-4994-AE51-AA206B133F80}"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A735EC7B-8D53-4114-A9CD-F12315B400A5}"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A993C0C7-A473-4327-8744-00FFF28E54CF}"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8DC769C7-AE4D-417B-B023-880F8D7D1653}"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F7FAFFD5-5C01-4479-9040-5807ECAB04B7}"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A1D687CA-1937-4700-9599-B10C550BF24A}"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BA1FD926-D50D-4B3B-980F-159E8A73231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47CCBE7-3231-4998-A53F-2916F25DC2F2}"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E6DD9DE1-AC9F-48C7-9689-7BB007CC5AB0}"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59167B93-68AC-4202-8253-88771CB58748}"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1A6ED12-D518-405F-9DB1-544DA898A3F6}"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217C7D5C-E52C-406B-9D2D-BA7F2A2C5447}"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BE832739-031E-412B-B45C-8947CC4142A3}"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004A5F11-F824-4D2F-87C7-3EBEEC04214D}"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BDD05614-A4C7-4DE0-A99D-EA3D4BA9BA1D}"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2D94939B-895D-4438-9A66-AFDC2AD9FA33}"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9ADAF8E6-7C09-4C7C-B4EE-B086A46FAA32}"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900748A2-C716-4AB2-A7E1-CE0015CC04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911810D-D9E4-4E04-93E2-01D15C3C3464}"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BF336C99-7FF4-42D9-8021-47D3AC3AA2EE}"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69F514D0-8F3B-41BD-896D-C4B9AA3F8409}"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00C1521E-276D-4909-96F4-633775D0659F}"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5DF66B64-851C-47DD-BFD5-43AE829F631B}"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6CDF07D9-29A9-4537-A66E-5F7C94C8C759}"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CB3E182-CE5B-4520-B036-1A92FB33B916}"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D9FD76E6-30CC-4613-AEEE-09ECE4897224}"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27EED1B6-6885-422F-979C-427B680F0D5E}"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A3A38C5A-BEF1-46D9-B8BF-104E367E167B}"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4FC0A77D-4276-412F-B887-76B45BA2C4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899BA3FD-8F9F-4AA7-9ABE-44D33EE23301}"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F47AA84F-8EDE-447F-9F25-30524EA29175}"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C9BE7EE8-C778-4B63-BB9A-587665A94CBE}"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41E5CFD1-F4C7-41CC-80A1-A06B74EC878E}"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762358C6-5241-4392-A775-1F2181F48ACE}"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2184746C-0454-4B12-8028-E95020C67C1C}"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90784104-6699-44A5-ADA3-CFD427C4BABA}"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FC298217-5136-4A77-9373-08BBBFAF0F94}"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13F177F4-DF14-4A03-95A8-BEDB90A05C90}"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3B3D44FA-582A-4519-BF85-9A02B0C88BFA}"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817DF546-DBB3-4B2E-B595-4234EB905B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494DEB5-7AC9-412A-9965-6CC8BF0EE1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17A13AF-7093-45BE-8863-6CFC61B89658}"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757A1DCF-E1D7-41BF-99CD-C18677DAFCBD}"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0DA727B8-831C-4118-8DF9-1FB0A4EA927C}"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7999FD2-7DB4-4317-A511-2604D4B10DE1}"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D4B81211-6CB1-4755-9D44-8C54AB161676}"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DD949E5D-DCC0-48C0-80F9-F6132E33C4C7}"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D5A89821-9F7E-47E1-8850-1D3822583AEA}"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5A89CAC1-3B65-49B5-96DE-523B434F53DF}"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787FF90-4326-4DCE-B108-7CA689A9E761}"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A3FD255-FEEC-48B9-97A4-ABFD69A7A357}"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4163771-E125-4C55-B694-FD1388436D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BAF6ED6-D0F1-4D42-92DC-0A80D26F0E3B}"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83EADF3C-8CC1-4720-8B46-5A44A89229B5}"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0974E316-45D5-49F4-B41A-99437F33EC22}"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F289CC8B-8FDC-42DA-AC41-54EC9F768F1C}"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F4E6F796-B15F-4239-87D0-23C4ED9A3AF8}"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3AC88CA5-EC23-462D-B04C-1223B64DACD8}"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DEDF1981-9343-44A0-898F-C3A1FAEC8951}"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5DE617DB-40F7-4194-A158-E30D31A21D0F}"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21DD7921-3079-47D9-8BC7-AC4BE6B2F36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7302EDFA-3F1E-42CE-B68C-3723A3CBE160}"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BDC003AE-525F-47BF-833B-5B0594A1CD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3ABD887-A149-4022-8F20-34FC50DA50C3}"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A81E8BF0-740E-49EE-B725-E08FA1758B4A}"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9C74326E-2F7E-46CF-BF08-A2953850B32E}"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72C6A26-56E9-4A24-9AAB-158AB831B4EE}"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E0FF8D1B-DB3D-4F11-A13A-111B8120026E}"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C682022A-8521-4DB9-A36E-AC31A452AB6F}"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016153C9-B81C-46D4-95A5-01A366D7F8E9}"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BF8E77B2-8B63-499C-983A-86CE1DB8E410}"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221DAC24-0C45-4BFC-8955-2977957BD741}"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0CA76D5B-A220-454E-97B8-C65673AF1919}"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5FA24A4E-71A6-4576-95C9-C02CC8F669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2EC6769-A429-4AFA-BBFA-23B32B532407}"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FBBEEB6D-FBDE-487D-8CC7-019D7CCA8F9F}"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C2E8F46-1BF6-477F-91B9-A640B70AC4AF}"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3339C38-BFF9-437E-9818-C44A30CFF4BE}"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4569672D-1F32-468B-AC41-1EA5F308EABD}"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06CC0F96-ADF9-4DB2-AA22-F912E1A192F9}"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C735035B-F27F-41B3-BD7A-76F8A571DA2E}"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5C33BBAB-3B2F-4210-8252-BF7A43DE39ED}"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1F6ED5F1-F78E-4DE3-BF3B-9ED2EB8E990B}"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1DE1BA90-0288-4C1B-9AAB-DF874E86AB65}"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169EC43-6920-44AD-9BDF-02B0A31AB9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A4A99E5-FF4F-41C5-AE8F-3442131DE970}"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A280E512-2C2C-4190-9C90-DB0C492F3364}"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52027DB4-5D36-49C4-9563-0E4D52B31446}"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A2CC44C1-C0B2-4F46-8410-19F4F2917DB3}"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E8ECB3D2-9DAB-4D4B-BFE5-036AB9BFC2F1}"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8B9DE4B1-9B36-480D-9AEE-7F93FB528F97}"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43271D79-373A-4607-A4E0-0AD23F7A5A16}"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EA6CD42A-7886-47DE-934A-AD7FF7D26DAF}"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5B3FCF7C-AE66-4F7D-BBC3-63A78B7FA8AF}"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3F046971-C3C3-4456-A171-E916A3D436EA}"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6DED576B-3EAE-4857-8A18-194B3C7066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DA9E49E-3342-4F39-9080-20A5EAA72273}"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A48ADF00-E99F-41F1-BA3B-40B5DEBADB02}"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955958D3-44F6-4A36-B3E4-0CF1C4FDB755}"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4840DC46-3C0F-4FDF-8F57-C1FC27E7856D}"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4AB89842-A4B5-41E7-93AE-777053B4F572}"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19CE1837-F17A-4C59-969D-C990D06A75A3}"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0408500C-3C08-42BF-96B1-54F06C4EE9E2}"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20BB4434-6CC1-4275-8AD9-FA3F57F9584C}"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AFDBFD70-1EAA-46A3-8A72-518C474E51A3}"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A89C4FB3-96AA-4940-8330-9F57094ED290}"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4D1D34C2-86F7-4F64-A2CA-019BF6BC949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09D76B1-7C33-4D08-961B-C6D3E8EEFAF7}"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66A9D342-40FB-462A-8F06-882A7F6FE3E2}"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D9C9ED85-4FFA-4B10-B14E-45C202C729DF}"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F3B0D69-CDD3-4D64-96E3-CB036466574F}"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D25DA24-BCB3-4FDD-B993-F00D84497930}"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E3956E18-2436-455E-96DE-11B2AB9E0DA2}"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06334432-1F05-4E5A-82B7-6518A3ABE01E}"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26AF0B27-F911-40D1-A8A4-297CDFEFDD38}"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9ED1E98C-512C-4A34-A192-3352F07D0936}"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69B4CD5-8BFE-4E2F-AE87-36422EC77544}"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F4D8B9B-CD61-4063-9C9B-AEA65A48B0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B759BDD-24CA-44E4-A1D8-8D0791DDB617}"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67DD004-E5BB-4EBA-A451-836B4CCB2F2A}"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B5FF02A1-D426-4F7C-943A-C18473232CE9}"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9B2FC358-C6F1-4ACC-90FA-EF4CB9D0FFC2}"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895FBB67-CEFC-4E09-99DD-BE1D3CB01AA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9ECACEF7-42EF-4AE5-9346-D0A2C670723B}"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2E39819B-24DC-4F01-9F91-710889F4A6BE}"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4D90230C-ADF6-45A6-9BF6-7C6BCA21CBF1}"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E8871FFA-1D6F-4B17-9BBC-D425A0F8E245}"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56C1B9DB-2A74-4ABB-9C94-7DAE4840C061}"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44C7D54C-9056-41BC-B0AF-D9A24A2269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E822602-B795-411B-A893-643E6BD8AD62}"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F6229CE0-59A5-4ADC-BBAA-4EE1D68FD6F9}"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45A2461-61C2-44BD-B72B-A26EDD1C77DE}"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31408283-8FD1-46F2-8642-8D79012B6182}"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FEBECC6E-EB98-442F-9AC9-8758F7D39F8A}"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A6317016-CE47-42B8-9443-FFF393724416}"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9E9A975B-B538-4929-AF27-36D0062FFEB0}"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B4E48373-5AFC-4029-801F-D1985FA06106}"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40FABC36-0D61-46B8-8407-554108FC3C19}"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3586C699-3CBC-4A18-B507-D96A599A1A5F}"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726C3D51-895C-432A-8E17-041C0E798D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C0B2B5F-B153-4D87-828A-8B530883CDDE}"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E516FBF3-0CB7-4B71-B91A-13CBCDEDDF78}"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6D9C31EA-0433-47C0-B459-A6895B39210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DB03F85-D1B8-4969-A502-CAB25FD44D91}"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E4FB1F0-3E50-4273-B062-1A297C8A8360}"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C9D1A22F-31F2-44D9-82FB-0083DFA95F0A}"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25B22076-2E85-476B-BB18-457A380676A4}"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FEA2C1D5-754E-4348-B82E-1532D88C0B07}"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D6816B4F-746C-4E2D-9A99-86C4AFE5F222}"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3699AB1A-B29D-4003-A76D-23DBD2634658}"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D0FE01D-C8C1-4176-B8B1-4B6405FF2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B65BC-3801-4AF2-AB81-DD079B199A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D42BA-5216-406A-B8E2-85F87E00F1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E2F21-71DA-4146-9690-EBA92A664D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118D3-14EE-4E41-868C-DC1AD33920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DBA43-D59E-4707-B669-1EF27AC526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F9A38-02ED-42F8-81B4-77C4069F24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F443C-2582-4BD4-A94E-8218EAA0A7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A226E-6EBE-479A-AC7E-C5494C5285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F3356-5D92-44C1-A551-FA084CE45A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35E07-79BF-457F-811F-26CC25E29D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200A1-C2F9-4BC6-B822-3CEB15295E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94F60-8AB2-4494-8CCC-FE1CE93104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80948-0BC7-450E-9675-BD87C7629F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E7D1D-F076-4FA1-896E-C2F4B2299F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70C9B-1146-461B-81CD-2226BEC2E8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12CB4-081B-47BB-87C0-F9351FD96F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F7A6D-EC0C-4698-ADF1-A3D53E6C1E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E5FA2-68A1-4102-BECD-A02BCDD3C0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A5DA3-C989-4CCA-A53E-3C8D6CBED8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323D4-A528-44E1-B869-AF6318BD0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E687E-3771-498B-9AEF-4B024F5880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8E6E9-8EED-4923-AD3D-1516931330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8D05E-CFF7-4414-8A65-0B858C9D78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1C69C-18FD-4660-8E7E-F6C72545AB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10B63-05FF-4BAD-B79C-77F4EC3CD0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6B4DB-46C9-4471-B97A-D98FD1496C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6B375-C62A-452D-B368-421517D0A9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522C2-6F26-4906-8628-5F897A151D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BE363-627F-4B28-98B1-2844F0F9BE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2DDEE-E237-49E0-90AC-561E4338FC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FBC35-8509-4A6B-BD7D-EA62C9184B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CCD67-449F-4329-A1B4-CC61B2D174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9635F-049D-425C-96D3-12E7BAE7DE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A7A55-C7B7-4EFB-8DC6-1D79918C43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1999A-A132-4669-95EB-58DDD8C029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99D84-F08C-4749-A8D3-0B12017E6F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A9DC7-B6CA-4989-989F-37EF4D3B99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F4701-FDFA-4C65-A763-FF46E05E72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279D5-DD1B-4A17-9811-716A2CA541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AA6C7-F789-4B11-9F05-90016212F1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AF0DB-F611-4DFB-B403-550847EBA6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C5642-4030-4B2B-8D8F-F3DEFD49E3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97E0B-82FB-4FAE-962A-738584D6F7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39586-CBB3-4F8C-98A9-23EDF95D60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8CD4E-06DB-4179-8C28-4FEA70F2B8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4AC64-33EE-4733-B286-AB69E8F8BA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3CE10-EE19-4CC1-B4F4-A0DC89CFC0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0E369-272A-4D04-9E14-0E6C0785EC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2630C-B2FB-406F-9FC1-B40E03772C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9B07C-F8B8-4F59-9031-C1E6A6D1CF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8AE43-07AB-4E03-8530-9A724807BD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FEC2C-0CA9-4B6D-92E6-8DD474F62B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C7952-4A35-4F6E-8245-0A6A29342C4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E25BA-0D7C-474D-A3E7-9513ADD93F0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566A3-FD88-41C8-808F-F6C33BCA538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2B6DC-DAA4-402C-B46A-84A10EA12B2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EA251-38C0-4EE7-B2C7-E8055C9195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7A8F5-8B6F-4A53-B85A-EA73D816E99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E0DDE-2263-4400-897A-B68A2B3C220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1E822-1CFC-4568-8D04-4FF1EA8ED6C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CAC2E-7A51-4769-A0D9-B113DC1BF1C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A3D26-5FA1-409E-8AD3-C5DD2B3307B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B1BF8-DD02-4DB4-ACFD-74502346AEA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F551B-6F29-4990-9671-88CB83451DB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53647-3A76-4576-A5A2-01342C8308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8F02D-0411-4E78-8BD2-FC27A042FC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0A3DD-629D-4E48-9B43-DEAD92AA1A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4D7DF1-B295-4649-90AA-B07AC0AA69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8E140-C5B0-4D9B-BFAD-4D7CC9ED96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856E3-327B-4DBA-824B-20866B5693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56145-2923-428C-A395-6CCFD64D10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8F280-1321-4C52-A74E-23655D855F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C3093-0D8E-4043-A12C-D53EF3A944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41F5E-D341-4E84-BF90-7C33152FDA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8F6D1-0602-40B9-B0E0-FD13BC96DE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E09A1-8CB5-460E-9DEC-502C8489A9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80322-1336-4F6C-AB18-C485A7E028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BC14A-1576-4886-A380-D62A1E6B2F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9A38D-B18B-4012-953E-E896D9B5B4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65B10-A411-45A4-BEFD-21FEF98B33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1DE60-ACBA-4200-8838-52DB67FE80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195F8-81B3-4E83-8EE9-500ED489E0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46982-E44A-4FE4-A0CF-9AE456B3B5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3FA6D-0D2A-4D9C-84D3-13B47DD52A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5469D-AC3B-430F-BA8C-75F98A54D9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1E3B8-EF02-4A7C-BF2A-61A39E2F69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ADC9A-8FB2-4EF2-B58E-62B831B9A7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4C1F3-7BFE-428B-9C50-0B4EA97199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08EC6-6D09-4FAF-A843-8CB0EF506A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26348-A53C-44AA-B88B-4B3B837084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11054-4F72-4DFF-BB46-594E42EE64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32DC1-7F32-44E8-8849-A5C7DABEA9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F3431-FA9C-4E67-9E7B-F0E7C82E68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7EABB-0466-4C54-8D54-FD87D9818A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46704-1082-4DAA-B3C9-1732BFAA53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3D55E-787D-4F1A-BE64-1B84F5EC6F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3F8AA-5B1F-4264-BCC7-129A37B8D1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517BC-E1D4-4127-BD9A-A65AE218B7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91CB3-2847-43DE-995B-EAFAB08C15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20C2B-72D8-493B-9AED-2228DF6C89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81B20-09AC-41CE-9EBC-82BC48C272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C5E03-7822-4F00-8956-65544115A7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DADDB-A259-488B-86FB-9ACDBA53DA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6C3C1-5D0C-453E-800E-77AD069B66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95428-2F0F-482A-960B-F55A3EE528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6541E-B1A6-4BA5-A15E-7553DAEA38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3EFEE-B93E-4B4B-9515-FA6102D3E7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44770-767D-42A1-A995-C1E9B852A8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92269-ABA8-4F35-AD93-7DC544BD8A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78E12-A5A2-4B61-8330-93914ED923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19BBD-7D7D-4977-BB5A-D62B919F50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EF6A9-CDDA-4550-9F12-EC842CD62F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3829D-563A-4ECB-9469-5B889B6C97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879C8-22E8-4DDA-A4BF-D2886D5E79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BCC35-BCDC-4DC0-A59D-C20A62DAA2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99036-A72C-4E5C-A145-4191357DFC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75CF7-5734-4677-9A04-283F79558C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2B602-E64F-4491-AB5B-FE9867CFEC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FD822-69F5-43EB-8991-13B6C4AE69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2DAA3-CD62-4536-9D0A-1A880B7452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115B7-EC3D-4BE6-A9E7-23406BDE80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4030B-282F-488B-8321-3D1F5E2450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61295-7FFE-4921-AA28-B82AC14323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D9176-10F5-4EBA-822E-E3172D524F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5B751-CD91-4273-8412-3FB6A66A53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9CF30-3894-4AEB-AC98-DB5D64CBC7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008CA-FC49-4951-B28A-D44C596DD1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D1880-1564-4C09-AF4C-D81AF04822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7DDFB-E35F-4F23-96E4-CE6C8A3D62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38DB7-EB80-41F7-84C5-3610338A84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F8A68-1B71-4F0D-B904-D5CCF99FB2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F9551-35ED-4DEE-86AA-AB4529FE8A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E5958-D6E1-4800-A1CD-A6E6F93DCE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EEC64-5158-4C3C-BBA2-07222BE02E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B9004-D1E3-421D-982A-EE3028131C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BCEDB-DD46-4032-930B-9070D18B11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438AC-EB84-44E3-8B26-B66128AC02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761C2-8C7B-43DB-A2BC-3C831BE077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85747-005B-49C7-B53A-41AD020F14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F7D59-2A94-4B11-8415-3C1025D9E2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EDD0F-BC0C-4CFF-98AB-B6B3141FCE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0FA17-45D3-4B77-A2C8-E8A5AF3D11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EF4F8-7D57-498C-B847-61F2532EAD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C9F89-2E09-482F-B12B-EA711D332D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A914E-9361-4AB0-BBCD-B16B9A1A24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42C9E-05CF-4CF3-B2EB-D2C44B9303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542CB-A562-4539-8E74-C760EC57BA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88A87-F26E-4916-9625-986F6A6B1A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57C04-8B46-4FC9-BFFC-524318F2C4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35AD6-8414-4F1B-A7AC-A6D7B31F55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BAE14-BA7F-4D62-8178-B35FD59AA5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E02F5-E78A-4C98-A707-1328C86D54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0B6A4-C426-45D1-8C5E-39E761474E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6826E-C54E-40EB-80DA-72E060C2BA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29E01-F97F-41B9-8E02-DF53CCA9B5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CD258-2A37-4E84-9CD6-2000123D6D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73" name="Group 1"/>
          <p:cNvGrpSpPr/>
          <p:nvPr/>
        </p:nvGrpSpPr>
        <p:grpSpPr>
          <a:xfrm>
            <a:off x="0" y="115920"/>
            <a:ext cx="9140760" cy="6548400"/>
            <a:chOff x="0" y="115920"/>
            <a:chExt cx="9140760" cy="6548400"/>
          </a:xfrm>
        </p:grpSpPr>
        <p:grpSp>
          <p:nvGrpSpPr>
            <p:cNvPr id="6474" name="Group 2"/>
            <p:cNvGrpSpPr/>
            <p:nvPr/>
          </p:nvGrpSpPr>
          <p:grpSpPr>
            <a:xfrm>
              <a:off x="0" y="115920"/>
              <a:ext cx="9140760" cy="6548400"/>
              <a:chOff x="0" y="115920"/>
              <a:chExt cx="9140760" cy="6548400"/>
            </a:xfrm>
          </p:grpSpPr>
          <p:sp>
            <p:nvSpPr>
              <p:cNvPr id="647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9"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0" name="Picture 8" descr=""/>
          <p:cNvPicPr/>
          <p:nvPr/>
        </p:nvPicPr>
        <p:blipFill>
          <a:blip r:embed="rId3"/>
          <a:stretch/>
        </p:blipFill>
        <p:spPr>
          <a:xfrm>
            <a:off x="250920" y="333360"/>
            <a:ext cx="1417680" cy="879480"/>
          </a:xfrm>
          <a:prstGeom prst="rect">
            <a:avLst/>
          </a:prstGeom>
          <a:ln w="0">
            <a:noFill/>
          </a:ln>
        </p:spPr>
      </p:pic>
      <p:sp>
        <p:nvSpPr>
          <p:cNvPr id="6481" name="Text Box 9"/>
          <p:cNvSpPr/>
          <p:nvPr/>
        </p:nvSpPr>
        <p:spPr>
          <a:xfrm>
            <a:off x="611280" y="1407960"/>
            <a:ext cx="8208720" cy="4402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2" name="Group 1"/>
          <p:cNvGrpSpPr/>
          <p:nvPr/>
        </p:nvGrpSpPr>
        <p:grpSpPr>
          <a:xfrm>
            <a:off x="0" y="115920"/>
            <a:ext cx="9140760" cy="6548400"/>
            <a:chOff x="0" y="115920"/>
            <a:chExt cx="9140760" cy="6548400"/>
          </a:xfrm>
        </p:grpSpPr>
        <p:grpSp>
          <p:nvGrpSpPr>
            <p:cNvPr id="6483" name="Group 2"/>
            <p:cNvGrpSpPr/>
            <p:nvPr/>
          </p:nvGrpSpPr>
          <p:grpSpPr>
            <a:xfrm>
              <a:off x="0" y="115920"/>
              <a:ext cx="9140760" cy="6548400"/>
              <a:chOff x="0" y="115920"/>
              <a:chExt cx="9140760" cy="6548400"/>
            </a:xfrm>
          </p:grpSpPr>
          <p:sp>
            <p:nvSpPr>
              <p:cNvPr id="64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9" name="Picture 8" descr=""/>
          <p:cNvPicPr/>
          <p:nvPr/>
        </p:nvPicPr>
        <p:blipFill>
          <a:blip r:embed="rId3"/>
          <a:stretch/>
        </p:blipFill>
        <p:spPr>
          <a:xfrm>
            <a:off x="250920" y="333360"/>
            <a:ext cx="1417680" cy="879480"/>
          </a:xfrm>
          <a:prstGeom prst="rect">
            <a:avLst/>
          </a:prstGeom>
          <a:ln w="0">
            <a:noFill/>
          </a:ln>
        </p:spPr>
      </p:pic>
      <p:sp>
        <p:nvSpPr>
          <p:cNvPr id="6490" name="Text Box 9"/>
          <p:cNvSpPr/>
          <p:nvPr/>
        </p:nvSpPr>
        <p:spPr>
          <a:xfrm>
            <a:off x="611280" y="1193760"/>
            <a:ext cx="8208720" cy="4830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1" name="Group 1"/>
          <p:cNvGrpSpPr/>
          <p:nvPr/>
        </p:nvGrpSpPr>
        <p:grpSpPr>
          <a:xfrm>
            <a:off x="0" y="115920"/>
            <a:ext cx="9140760" cy="6548400"/>
            <a:chOff x="0" y="115920"/>
            <a:chExt cx="9140760" cy="6548400"/>
          </a:xfrm>
        </p:grpSpPr>
        <p:grpSp>
          <p:nvGrpSpPr>
            <p:cNvPr id="6492" name="Group 2"/>
            <p:cNvGrpSpPr/>
            <p:nvPr/>
          </p:nvGrpSpPr>
          <p:grpSpPr>
            <a:xfrm>
              <a:off x="0" y="115920"/>
              <a:ext cx="9140760" cy="6548400"/>
              <a:chOff x="0" y="115920"/>
              <a:chExt cx="9140760" cy="6548400"/>
            </a:xfrm>
          </p:grpSpPr>
          <p:sp>
            <p:nvSpPr>
              <p:cNvPr id="64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8" descr=""/>
          <p:cNvPicPr/>
          <p:nvPr/>
        </p:nvPicPr>
        <p:blipFill>
          <a:blip r:embed="rId3"/>
          <a:stretch/>
        </p:blipFill>
        <p:spPr>
          <a:xfrm>
            <a:off x="250920" y="333360"/>
            <a:ext cx="1417680" cy="879480"/>
          </a:xfrm>
          <a:prstGeom prst="rect">
            <a:avLst/>
          </a:prstGeom>
          <a:ln w="0">
            <a:noFill/>
          </a:ln>
        </p:spPr>
      </p:pic>
      <p:sp>
        <p:nvSpPr>
          <p:cNvPr id="6499" name="Text Box 9"/>
          <p:cNvSpPr/>
          <p:nvPr/>
        </p:nvSpPr>
        <p:spPr>
          <a:xfrm>
            <a:off x="611280" y="1469880"/>
            <a:ext cx="8208720" cy="42786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0" name="Group 1"/>
          <p:cNvGrpSpPr/>
          <p:nvPr/>
        </p:nvGrpSpPr>
        <p:grpSpPr>
          <a:xfrm>
            <a:off x="0" y="115920"/>
            <a:ext cx="9140760" cy="6548400"/>
            <a:chOff x="0" y="115920"/>
            <a:chExt cx="9140760" cy="6548400"/>
          </a:xfrm>
        </p:grpSpPr>
        <p:grpSp>
          <p:nvGrpSpPr>
            <p:cNvPr id="6501" name="Group 2"/>
            <p:cNvGrpSpPr/>
            <p:nvPr/>
          </p:nvGrpSpPr>
          <p:grpSpPr>
            <a:xfrm>
              <a:off x="0" y="115920"/>
              <a:ext cx="9140760" cy="6548400"/>
              <a:chOff x="0" y="115920"/>
              <a:chExt cx="9140760" cy="6548400"/>
            </a:xfrm>
          </p:grpSpPr>
          <p:sp>
            <p:nvSpPr>
              <p:cNvPr id="65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8" descr=""/>
          <p:cNvPicPr/>
          <p:nvPr/>
        </p:nvPicPr>
        <p:blipFill>
          <a:blip r:embed="rId3"/>
          <a:stretch/>
        </p:blipFill>
        <p:spPr>
          <a:xfrm>
            <a:off x="250920" y="333360"/>
            <a:ext cx="1417680" cy="879480"/>
          </a:xfrm>
          <a:prstGeom prst="rect">
            <a:avLst/>
          </a:prstGeom>
          <a:ln w="0">
            <a:noFill/>
          </a:ln>
        </p:spPr>
      </p:pic>
      <p:sp>
        <p:nvSpPr>
          <p:cNvPr id="6508" name="Text Box 9"/>
          <p:cNvSpPr/>
          <p:nvPr/>
        </p:nvSpPr>
        <p:spPr>
          <a:xfrm>
            <a:off x="611280" y="1839960"/>
            <a:ext cx="820872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395280" y="1052640"/>
            <a:ext cx="8497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395280" y="1052640"/>
            <a:ext cx="8497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618" name="Picture 2" descr=""/>
          <p:cNvPicPr/>
          <p:nvPr/>
        </p:nvPicPr>
        <p:blipFill>
          <a:blip r:embed="rId1"/>
          <a:stretch/>
        </p:blipFill>
        <p:spPr>
          <a:xfrm>
            <a:off x="0" y="0"/>
            <a:ext cx="9144000" cy="1368360"/>
          </a:xfrm>
          <a:prstGeom prst="rect">
            <a:avLst/>
          </a:prstGeom>
          <a:ln w="0">
            <a:noFill/>
          </a:ln>
        </p:spPr>
      </p:pic>
      <p:pic>
        <p:nvPicPr>
          <p:cNvPr id="6619" name="Picture 3" descr=""/>
          <p:cNvPicPr/>
          <p:nvPr/>
        </p:nvPicPr>
        <p:blipFill>
          <a:blip r:embed="rId2"/>
          <a:stretch/>
        </p:blipFill>
        <p:spPr>
          <a:xfrm>
            <a:off x="1258920" y="2060640"/>
            <a:ext cx="1297080" cy="1528560"/>
          </a:xfrm>
          <a:prstGeom prst="rect">
            <a:avLst/>
          </a:prstGeom>
          <a:ln w="0">
            <a:noFill/>
          </a:ln>
        </p:spPr>
      </p:pic>
      <p:pic>
        <p:nvPicPr>
          <p:cNvPr id="6620" name="Picture 4" descr=""/>
          <p:cNvPicPr/>
          <p:nvPr/>
        </p:nvPicPr>
        <p:blipFill>
          <a:blip r:embed="rId3"/>
          <a:stretch/>
        </p:blipFill>
        <p:spPr>
          <a:xfrm>
            <a:off x="6948360" y="1989000"/>
            <a:ext cx="1444680" cy="1573200"/>
          </a:xfrm>
          <a:prstGeom prst="rect">
            <a:avLst/>
          </a:prstGeom>
          <a:ln w="0">
            <a:noFill/>
          </a:ln>
        </p:spPr>
      </p:pic>
      <p:sp>
        <p:nvSpPr>
          <p:cNvPr id="6621"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6622"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539640" y="1413000"/>
            <a:ext cx="828036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539640" y="1413000"/>
            <a:ext cx="828036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8" name="Group 1"/>
          <p:cNvGrpSpPr/>
          <p:nvPr/>
        </p:nvGrpSpPr>
        <p:grpSpPr>
          <a:xfrm>
            <a:off x="0" y="115920"/>
            <a:ext cx="9140760" cy="6548400"/>
            <a:chOff x="0" y="115920"/>
            <a:chExt cx="9140760" cy="6548400"/>
          </a:xfrm>
        </p:grpSpPr>
        <p:grpSp>
          <p:nvGrpSpPr>
            <p:cNvPr id="6429" name="Group 2"/>
            <p:cNvGrpSpPr/>
            <p:nvPr/>
          </p:nvGrpSpPr>
          <p:grpSpPr>
            <a:xfrm>
              <a:off x="0" y="115920"/>
              <a:ext cx="9140760" cy="6548400"/>
              <a:chOff x="0" y="115920"/>
              <a:chExt cx="9140760" cy="6548400"/>
            </a:xfrm>
          </p:grpSpPr>
          <p:sp>
            <p:nvSpPr>
              <p:cNvPr id="643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5" name="Picture 8" descr=""/>
          <p:cNvPicPr/>
          <p:nvPr/>
        </p:nvPicPr>
        <p:blipFill>
          <a:blip r:embed="rId3"/>
          <a:stretch/>
        </p:blipFill>
        <p:spPr>
          <a:xfrm>
            <a:off x="250920" y="333360"/>
            <a:ext cx="1417680" cy="879480"/>
          </a:xfrm>
          <a:prstGeom prst="rect">
            <a:avLst/>
          </a:prstGeom>
          <a:ln w="0">
            <a:noFill/>
          </a:ln>
        </p:spPr>
      </p:pic>
      <p:sp>
        <p:nvSpPr>
          <p:cNvPr id="6436" name="Text Box 9"/>
          <p:cNvSpPr/>
          <p:nvPr/>
        </p:nvSpPr>
        <p:spPr>
          <a:xfrm>
            <a:off x="324000" y="2270160"/>
            <a:ext cx="8496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7" name="Group 1"/>
          <p:cNvGrpSpPr/>
          <p:nvPr/>
        </p:nvGrpSpPr>
        <p:grpSpPr>
          <a:xfrm>
            <a:off x="0" y="115920"/>
            <a:ext cx="9140760" cy="6548400"/>
            <a:chOff x="0" y="115920"/>
            <a:chExt cx="9140760" cy="6548400"/>
          </a:xfrm>
        </p:grpSpPr>
        <p:grpSp>
          <p:nvGrpSpPr>
            <p:cNvPr id="6438" name="Group 2"/>
            <p:cNvGrpSpPr/>
            <p:nvPr/>
          </p:nvGrpSpPr>
          <p:grpSpPr>
            <a:xfrm>
              <a:off x="0" y="115920"/>
              <a:ext cx="9140760" cy="6548400"/>
              <a:chOff x="0" y="115920"/>
              <a:chExt cx="9140760" cy="6548400"/>
            </a:xfrm>
          </p:grpSpPr>
          <p:sp>
            <p:nvSpPr>
              <p:cNvPr id="643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3"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4" name="Picture 8" descr=""/>
          <p:cNvPicPr/>
          <p:nvPr/>
        </p:nvPicPr>
        <p:blipFill>
          <a:blip r:embed="rId3"/>
          <a:stretch/>
        </p:blipFill>
        <p:spPr>
          <a:xfrm>
            <a:off x="250920" y="333360"/>
            <a:ext cx="1417680" cy="879480"/>
          </a:xfrm>
          <a:prstGeom prst="rect">
            <a:avLst/>
          </a:prstGeom>
          <a:ln w="0">
            <a:noFill/>
          </a:ln>
        </p:spPr>
      </p:pic>
      <p:sp>
        <p:nvSpPr>
          <p:cNvPr id="6445" name="Text Box 9"/>
          <p:cNvSpPr/>
          <p:nvPr/>
        </p:nvSpPr>
        <p:spPr>
          <a:xfrm>
            <a:off x="324000" y="2270160"/>
            <a:ext cx="8496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6" name="Group 1"/>
          <p:cNvGrpSpPr/>
          <p:nvPr/>
        </p:nvGrpSpPr>
        <p:grpSpPr>
          <a:xfrm>
            <a:off x="0" y="115920"/>
            <a:ext cx="9140760" cy="6548400"/>
            <a:chOff x="0" y="115920"/>
            <a:chExt cx="9140760" cy="6548400"/>
          </a:xfrm>
        </p:grpSpPr>
        <p:grpSp>
          <p:nvGrpSpPr>
            <p:cNvPr id="6447" name="Group 2"/>
            <p:cNvGrpSpPr/>
            <p:nvPr/>
          </p:nvGrpSpPr>
          <p:grpSpPr>
            <a:xfrm>
              <a:off x="0" y="115920"/>
              <a:ext cx="9140760" cy="6548400"/>
              <a:chOff x="0" y="115920"/>
              <a:chExt cx="9140760" cy="6548400"/>
            </a:xfrm>
          </p:grpSpPr>
          <p:sp>
            <p:nvSpPr>
              <p:cNvPr id="644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3" name="Picture 8" descr=""/>
          <p:cNvPicPr/>
          <p:nvPr/>
        </p:nvPicPr>
        <p:blipFill>
          <a:blip r:embed="rId3"/>
          <a:stretch/>
        </p:blipFill>
        <p:spPr>
          <a:xfrm>
            <a:off x="250920" y="333360"/>
            <a:ext cx="1417680" cy="879480"/>
          </a:xfrm>
          <a:prstGeom prst="rect">
            <a:avLst/>
          </a:prstGeom>
          <a:ln w="0">
            <a:noFill/>
          </a:ln>
        </p:spPr>
      </p:pic>
      <p:sp>
        <p:nvSpPr>
          <p:cNvPr id="6454" name="Text Box 9"/>
          <p:cNvSpPr/>
          <p:nvPr/>
        </p:nvSpPr>
        <p:spPr>
          <a:xfrm>
            <a:off x="395280" y="977760"/>
            <a:ext cx="8497800" cy="5262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5" name="Group 1"/>
          <p:cNvGrpSpPr/>
          <p:nvPr/>
        </p:nvGrpSpPr>
        <p:grpSpPr>
          <a:xfrm>
            <a:off x="0" y="115920"/>
            <a:ext cx="9140760" cy="6548400"/>
            <a:chOff x="0" y="115920"/>
            <a:chExt cx="9140760" cy="6548400"/>
          </a:xfrm>
        </p:grpSpPr>
        <p:grpSp>
          <p:nvGrpSpPr>
            <p:cNvPr id="6456" name="Group 2"/>
            <p:cNvGrpSpPr/>
            <p:nvPr/>
          </p:nvGrpSpPr>
          <p:grpSpPr>
            <a:xfrm>
              <a:off x="0" y="115920"/>
              <a:ext cx="9140760" cy="6548400"/>
              <a:chOff x="0" y="115920"/>
              <a:chExt cx="9140760" cy="6548400"/>
            </a:xfrm>
          </p:grpSpPr>
          <p:sp>
            <p:nvSpPr>
              <p:cNvPr id="645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2" name="Picture 8" descr=""/>
          <p:cNvPicPr/>
          <p:nvPr/>
        </p:nvPicPr>
        <p:blipFill>
          <a:blip r:embed="rId3"/>
          <a:stretch/>
        </p:blipFill>
        <p:spPr>
          <a:xfrm>
            <a:off x="250920" y="333360"/>
            <a:ext cx="1417680" cy="879480"/>
          </a:xfrm>
          <a:prstGeom prst="rect">
            <a:avLst/>
          </a:prstGeom>
          <a:ln w="0">
            <a:noFill/>
          </a:ln>
        </p:spPr>
      </p:pic>
      <p:sp>
        <p:nvSpPr>
          <p:cNvPr id="6463" name="Text Box 9"/>
          <p:cNvSpPr/>
          <p:nvPr/>
        </p:nvSpPr>
        <p:spPr>
          <a:xfrm>
            <a:off x="250920" y="1407960"/>
            <a:ext cx="8569080" cy="4402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4" name="Group 1"/>
          <p:cNvGrpSpPr/>
          <p:nvPr/>
        </p:nvGrpSpPr>
        <p:grpSpPr>
          <a:xfrm>
            <a:off x="0" y="115920"/>
            <a:ext cx="9140760" cy="6548400"/>
            <a:chOff x="0" y="115920"/>
            <a:chExt cx="9140760" cy="6548400"/>
          </a:xfrm>
        </p:grpSpPr>
        <p:grpSp>
          <p:nvGrpSpPr>
            <p:cNvPr id="6465" name="Group 2"/>
            <p:cNvGrpSpPr/>
            <p:nvPr/>
          </p:nvGrpSpPr>
          <p:grpSpPr>
            <a:xfrm>
              <a:off x="0" y="115920"/>
              <a:ext cx="9140760" cy="6548400"/>
              <a:chOff x="0" y="115920"/>
              <a:chExt cx="9140760" cy="6548400"/>
            </a:xfrm>
          </p:grpSpPr>
          <p:sp>
            <p:nvSpPr>
              <p:cNvPr id="646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1" name="Picture 8" descr=""/>
          <p:cNvPicPr/>
          <p:nvPr/>
        </p:nvPicPr>
        <p:blipFill>
          <a:blip r:embed="rId3"/>
          <a:stretch/>
        </p:blipFill>
        <p:spPr>
          <a:xfrm>
            <a:off x="250920" y="333360"/>
            <a:ext cx="1417680" cy="879480"/>
          </a:xfrm>
          <a:prstGeom prst="rect">
            <a:avLst/>
          </a:prstGeom>
          <a:ln w="0">
            <a:noFill/>
          </a:ln>
        </p:spPr>
      </p:pic>
      <p:sp>
        <p:nvSpPr>
          <p:cNvPr id="6472" name="Text Box 9"/>
          <p:cNvSpPr/>
          <p:nvPr/>
        </p:nvSpPr>
        <p:spPr>
          <a:xfrm>
            <a:off x="611280" y="2054160"/>
            <a:ext cx="820872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7:07Z</dcterms:modified>
  <cp:revision>1</cp:revision>
  <dc:subject/>
  <dc:title/>
</cp:coreProperties>
</file>